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D30A8-1A75-4788-87C5-3DBA319D7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C0863-086F-4A81-A104-F3C3E7AB2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4DA-A8AA-4983-B3AF-70AF11F8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D95-2281-4405-AC10-14655EC4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111BE-8D0D-4239-8355-62865920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CD5D1-6EE0-4669-A832-D68DC4B6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86631-D5E9-4A2C-80B1-B4279FF3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67281-36BE-43C4-B6FF-05C862F5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369AE-6314-4BCF-A210-3928F7C0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B5C9A-334E-46DA-82BD-54919107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82E10-0531-4FEC-93CF-0C8789F9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6DEBF-D32F-4C0E-998B-7C8D861E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73AC2-B677-4504-AA63-6AC66C0F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B6BC9-69BC-46B7-8648-0F05C343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9CE-5B7D-440E-865F-898742F1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550BC-C67D-436A-A524-43D9D1BE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96F1B-1724-4139-897E-1A4520E0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DE631-26F9-4459-BF15-38D38581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24174-E6F7-4D35-97C3-F49C884B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9FF79-A542-423D-A222-7A744B32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7AD53-C4A5-489D-B31C-0BFA187D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89A8A-688A-49BA-841B-379E12F4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5B82A-2B27-4241-8E41-2BB911FA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84E49-DE90-4658-91D1-DC9DF086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6F7DE-BFD6-491B-A06D-C70D4D21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B55-0D4C-404E-BB65-0C134BF3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9136E-7A02-4C46-8290-15F77123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AF0E7-EAF3-42C3-9C5E-5CC2F2C1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AABFB-917B-4432-8F99-063B2DE1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7DD25-1380-4321-AAE7-5972C064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4DE54-4CB7-4459-BC18-FAEBD8E1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2ED7B-0F38-4611-BCC9-8C435996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ACBD6-8140-4486-A02A-B81E33A9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0C534-55A2-453E-B5E5-2DC588AD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E8BF2-010D-473B-9EFE-D615DBF4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791E4-7C38-4A0E-A1C3-A3D5DD3A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5206-9C43-4984-8C1B-0FF28229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C9C60-8584-4DB1-B359-D3261D15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C208B-1055-4591-89F2-1F586DB9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F292D-DBD5-4786-B5F8-214611FA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D24F1-3E34-46BC-8D26-F5A4F839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8E227-77C5-45E4-8117-63E0E6F6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D625B-70F5-4391-B0F1-FE455EF0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747AD-0999-4A75-BFFE-2B455100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87EC1-C8B8-4544-A61F-C9FD5CA1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1D4F1-6F9E-43B7-9D9C-36D641AE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24180-6434-4821-B5D7-6888D827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3AE5-ADC3-475E-A732-E685E248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1FA51-E94F-4CB2-9F69-BCCEC7E9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43E48-0FE3-41BA-A9D1-24613AC8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B65D1-A1E6-4201-BA38-13D89091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F3F15-3701-4696-9F68-13693461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D80CB-1F5B-476A-A955-A89DD383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8F50E-2030-4C4A-9328-94B88D65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211AB2-8F7A-4FBE-91BF-6A41E4D1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3B15BA-0592-4DEA-A0B2-FE728053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78FCE-345E-4FDB-BD52-ACD0C8F2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7F6F34-0217-4B61-AABD-D9980D1F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43AD-DF90-44F4-99D6-9531E7DE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C9246-335D-4AF2-9C17-8F8E9D07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0E10F-1987-4B10-881F-F655C8B4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2BED1-C2D2-478B-A474-5ACC9E9A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EEDFE-325F-4130-94A8-55793F87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5DBBD9-897D-46C3-9B65-4D194972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51D93E-6398-4669-B98A-0912F5C3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3F0F39-FA36-4D3C-958A-2F7CB058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ADF48-818A-4809-8115-02BF9AD2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15D45-4256-46A3-BADA-4A544804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D91591-E53A-429C-9DEC-576FB99B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299D-28A8-4AE9-A95F-923112D8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00DA1-F617-437F-9F72-6CAA8B27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1A0F4-4275-45FE-A7F9-75F568B7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71D80-EF1B-46F1-8DB1-2E918A87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2143E0-DD58-4423-B550-E10057EF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F13A95-7E71-47B9-9BDC-300FDC87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F8ED4-9CEF-4A55-89CE-99938CF1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35001-D074-41D8-BFC8-AB88CBD0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38662-6716-4B99-AD8B-3F50EFF1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F50530-F996-4FB9-B142-0C9C0A04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3F56C9-7BDF-4E8F-AC7C-4F9058EE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8C34-839D-47EF-AE5F-20764F34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AF92B0-7456-480B-8D56-B79FB672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EF8520-3840-423D-9ADA-BE7E9B07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FE1739-9F23-44A0-981C-20CDFCED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529AD4-9856-453C-BE09-B3DA4FF2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B97C98-FD59-48D1-9D6A-43242A3F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2EDFA-05BF-4E33-AC98-21BAC61B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3F0EE7-E071-4415-8949-DFA64B1A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EE1F8D-1222-4E65-BECB-98B948E9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421F50-2C51-49C8-A021-6FAB56D2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BE39C-C836-452C-8A05-72E0E988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F882-0B4C-4887-8F00-AADA68AF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3A62F-5109-44EE-89FC-076E5729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29EAB2-186A-4327-80A4-9C151B6C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654F9D-205B-41B0-932A-E9FEB23A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477B10-8CC5-4E33-BF05-F13745CE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BE2AAD-65F1-4302-AC9B-74C0FF1F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DE9305-84FC-4D8D-ABC8-39E80E52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24B8EB-CA7B-4432-90FF-5B94BD90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0A6535-F2D4-4482-9A67-0658D54B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CEF253-B2B8-47B1-8156-144FF43B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13624D-A712-4204-AD6A-08056EA4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749C-3B09-476C-9DC8-A54B517C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B71553-D350-4E92-BB57-8C26C214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1D4120-7CDA-470D-9184-56A52BD9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6D768F-B67B-4654-AE5E-9C4BAD7E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A7ED80-C213-4D67-B821-7BF1C13F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813A94-421A-4669-A975-E4D3690D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B80F36-B400-48BA-934A-5BAFB465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C4ACA6-5386-4B3C-9770-E7ABDA63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C9AC9E-C1C1-4E29-A438-B73C8B74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930459-726E-4D3D-BA4A-21F17186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A5308F-627B-4C2D-81B2-979F1032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F97-6183-4534-A511-CE3F906A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6618-940F-40E2-8641-E1295A92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3D07C7-F61B-41A7-BCDE-DB30305B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97BD07-5403-4C55-936A-D30632F4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212A8A-7F11-48A6-9DEB-C86E97D4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118145-30FF-440F-BDDF-33CB8900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D6526A-EBAA-4686-9D58-9C332A4E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0A0A-E55E-4703-8A7B-B5D746F2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5C25-E03F-460D-A212-812CE3B9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8862-9EDB-4E92-93A0-2C8954A0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B8FA-0983-430B-8394-05B39464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897E9-DC48-4EB6-9BFE-C3414C91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06AC5-E843-4C33-B9B4-C99C53DA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AC07B-83CB-4CE1-BC87-5CA0E996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A3736-A426-47F9-8101-AB4DDC7D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487B9-78E7-449A-BCD3-06874ACB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8DB-8579-4575-B56C-879BE10D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1237C-E091-4471-8D6F-B634232C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C146B-8D4F-4257-8279-8ED1984D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DA444-66F1-45C9-A5EA-7D2DA22B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75330-5656-49E6-BC80-6B22C7D4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67B27-1F5F-4EE4-8293-19C14397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987DD-C0F8-46A8-9EAC-630B4EFE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1D799-A90A-4EC9-B95D-11BDBD66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3F58D-562C-45ED-9443-8D1A7392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2904C-5AA3-4E12-AA37-9641D758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87C12-BDEC-4088-9AB2-A9281BA4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E06-02FD-4F8A-A5BF-C666F162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EC0FC-8A0B-4C15-9632-D4553A42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65FDD-3A4B-429A-912A-EDD81DEA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D054A-482F-410B-BFCF-DEFD1476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A37FE-1652-44EE-98D3-D1F78C69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2A911-3772-4C97-ACA8-FC1FD6F3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2A637-6199-4572-9BE8-4F4DFDBB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5779E-6AB2-4617-AB42-9A60AECD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4C0F7-CD20-4032-96B9-4145D8C7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5FF0B-CBFF-479B-90FF-F956FBBE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22731-83C4-4A91-B09C-192863B7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4AC-4DD6-4D42-9BEA-D3F38CEF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19E29-9875-4F2D-B73C-7298B04B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9E6D0-D3E8-41FE-A5FC-D1277DCB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3129D-276A-4FCD-B46C-7840B176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779E9-8558-4154-9E16-2B6D4127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7C79D-32D1-4328-8215-BA59149F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64F87-853D-4883-A84E-C4A2E27B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2CD8F-9168-4843-8533-4DC44FFF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DD376-1EBB-4610-B88C-947DE94B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E61B1-FA7A-4692-9A37-2C77FCF9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0006E-DDC0-44C3-8848-EBE3D6B5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3915-55EC-4E10-8F20-58AE2F77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78742-D47A-4BF9-A5C4-4A92FAD7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12549-895B-4438-B54F-994A4D40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F4938-7C12-430E-93DC-B5BEB383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E4C39-71ED-4494-93DC-19A303C6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4ED73-2CF9-4DE3-A4D9-055F74DC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AA068-524E-4771-B928-B5063BEC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A1008-EC99-470D-854E-45D007E6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A7986-ACD6-4EBB-81A8-73EBA588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904C3-17DE-40D5-B5A6-08D2D88B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CB52F-6BF2-46CF-8BD6-CC9302B0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D7A-5A51-447A-B0A1-FF931C29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72FD1-C0C3-45DE-AA85-7BA8ADC8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30087-7B4A-4D07-8067-A4B34B9C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DBB9F-ADAB-4683-A545-D58B382A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4ED5B-DE93-4C03-B8E4-AB96421C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9079D-F323-494F-8EA9-264517CB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CF1AC-8532-45E0-9149-7295C32A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B6563-91CF-433C-98D1-E7E5A586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D569B-FEEA-46E1-929A-0F30C8CC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9C2A9-2BCC-4F2F-8DA2-B489D914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AB00D-A179-403C-B442-4169C8C8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D82-A515-4BFD-B3C8-88752B99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9CBC7-3FC5-45BE-9423-A5733032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87768-AB63-4A34-B378-33D6D1FD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A1145-D134-476A-8FD2-DE79AB82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6151B-FB6E-4A55-B7CF-8252E0DF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B137C-4CDE-4971-AFFC-99195743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98241-8D70-4498-AF64-19A6ADA0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66958-7A2B-44A1-AB30-E389B1A5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16D44-B3F3-4D5D-AE84-2A8EBA25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0F188-7409-46C0-A84F-EFFF886F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93DB2-9C23-4A82-85BF-7F0A6CAD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E59-C3AB-4EA0-931C-8E1BDA5B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DACE8-3321-499D-99A0-271FFB37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7C280-EB2F-4FAD-9885-4732E5A1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0772F-B09B-4D5E-A51F-66D42C5F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59997-4C19-4FEB-A2B8-03B75E20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A5D79-5D49-438C-86F7-3E088A5A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F83E5-F521-4763-B542-D825D97E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46660-9216-4E96-8E57-3E3C986A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E61A1-D76D-4A97-96EB-63098826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F1ED9-9B4B-4610-B536-9EB440D5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A4604-2637-49DA-B4EA-A081C528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35CA4-AE1F-4867-A54B-1FE9DEE89A1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B9B04-4C53-4E64-9EDE-4C21ABAC6D3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238E6-30BE-4A01-B247-42330575911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3949F-7A35-4ADE-BDD8-E73B365DC64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F9ABF-359E-420D-9FB8-5675683C6B3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20B71-8CB6-4C84-B9F5-ADE9BC8B1E8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2B8E8-7FA4-45E1-B008-7BEAE9B72FA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FFAEE-1778-402C-A25F-E604AC5F84F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48468-E6D4-4230-9ACC-E68C88EC699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61483-532E-453E-AD6C-3EC8DBC6392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5DDDA-AC30-4A73-9350-8AB7E0534D4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D4A27-10CC-4DF1-B8C5-AC79ED3D37A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F443B-6382-4D71-83F8-105F2B8AB61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949C8-CB73-47C5-B092-A913E018DC9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8C44C-A410-4558-8521-57780D64E70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648E4-E29E-4324-8849-6DD251086E2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5E934-6C05-44CA-9439-C256FA56D8D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depts.washington.edu/marbio/links/prospective.html" TargetMode="External"/><Relationship Id="rId2" Type="http://schemas.openxmlformats.org/officeDocument/2006/relationships/hyperlink" Target="http://depts.washington.edu/marbio/links/prospective.html" TargetMode="External"/><Relationship Id="rId3" Type="http://schemas.openxmlformats.org/officeDocument/2006/relationships/hyperlink" Target="http://www.marinecareers.net/marine-biology" TargetMode="External"/><Relationship Id="rId4" Type="http://schemas.openxmlformats.org/officeDocument/2006/relationships/hyperlink" Target="http://www.marinecareers.net/marine-biology" TargetMode="External"/><Relationship Id="rId5" Type="http://schemas.openxmlformats.org/officeDocument/2006/relationships/hyperlink" Target="http://www.indeed.com/salary/q-Marine-Biologist-l-Washington.html" TargetMode="External"/><Relationship Id="rId6" Type="http://schemas.openxmlformats.org/officeDocument/2006/relationships/hyperlink" Target="http://www.indeed.com/salary/q-Marine-Biologist-l-Washington.html" TargetMode="External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epts.washington.edu/marbio/links/prospective.html" TargetMode="External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www.youtube.com/watch?v=g_aguo7V0Q4&amp;list=PLEXqjIYY5zi6hWCvm5idXYLH2Qtv7fT-f&amp;index=2" TargetMode="External"/><Relationship Id="rId3" Type="http://schemas.openxmlformats.org/officeDocument/2006/relationships/hyperlink" Target="https://www.youtube.com/watch?v=g_aguo7V0Q4&amp;list=PLEXqjIYY5zi6hWCvm5idXYLH2Qtv7fT-f&amp;index=2" TargetMode="Externa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ootprintnetwork.org/en/index.php/GFN/page/calculators/" TargetMode="External"/><Relationship Id="rId2" Type="http://schemas.openxmlformats.org/officeDocument/2006/relationships/hyperlink" Target="http://www.footprintnetwork.org/en/index.php/GFN/page/calculators/" TargetMode="External"/><Relationship Id="rId3" Type="http://schemas.openxmlformats.org/officeDocument/2006/relationships/hyperlink" Target="http://www.footprintnetwork.org/en/index.php/GFN/page/calculators/" TargetMode="External"/><Relationship Id="rId4" Type="http://schemas.openxmlformats.org/officeDocument/2006/relationships/hyperlink" Target="http://www.footprintnetwork.org/en/index.php/GFN/page/personal_footprint/" TargetMode="External"/><Relationship Id="rId5" Type="http://schemas.openxmlformats.org/officeDocument/2006/relationships/hyperlink" Target="http://www.footprintnetwork.org/en/index.php/GFN/page/personal_footprint/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5" descr=""/>
          <p:cNvPicPr/>
          <p:nvPr/>
        </p:nvPicPr>
        <p:blipFill>
          <a:blip r:embed="rId1"/>
          <a:stretch/>
        </p:blipFill>
        <p:spPr>
          <a:xfrm>
            <a:off x="-546120" y="0"/>
            <a:ext cx="10242720" cy="6858000"/>
          </a:xfrm>
          <a:prstGeom prst="rect">
            <a:avLst/>
          </a:prstGeom>
          <a:ln w="0">
            <a:noFill/>
          </a:ln>
        </p:spPr>
      </p:pic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2920" y="2514600"/>
            <a:ext cx="659916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entury Gothic"/>
              </a:rPr>
              <a:t>Energy Use in Everyday Life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1942920" y="4776480"/>
            <a:ext cx="659916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WABS/STEM Uni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401480" y="582480"/>
            <a:ext cx="72262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1401480" y="1371240"/>
            <a:ext cx="7226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Calculatio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was difficul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assumptions did we have to mak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Do you think these values include the entire life cycle analysi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auses the differences between the by hand and online tool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442880" y="622080"/>
            <a:ext cx="729792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1057320" y="1371600"/>
            <a:ext cx="782784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festyle cho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How do you and your classmates compare to the rest of the US? Europe?  The world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hoices result in the largest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the role of diet: food-miles, relative impact of red meat, other meat, dairy, and all other food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ich portions of the carbon footprint do  students personally control, vs. their parents, vs. broader society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an students chang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4" name="Picture 5" descr="http://www.footprintnetwork.org/images/trends/2015/united_states_of_america.png"/>
          <p:cNvPicPr/>
          <p:nvPr/>
        </p:nvPicPr>
        <p:blipFill>
          <a:blip r:embed="rId1"/>
          <a:stretch/>
        </p:blipFill>
        <p:spPr>
          <a:xfrm>
            <a:off x="1596960" y="2608200"/>
            <a:ext cx="6318360" cy="3184560"/>
          </a:xfrm>
          <a:prstGeom prst="rect">
            <a:avLst/>
          </a:prstGeom>
          <a:ln w="0">
            <a:noFill/>
          </a:ln>
        </p:spPr>
      </p:pic>
      <p:sp>
        <p:nvSpPr>
          <p:cNvPr id="1215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7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9" name="Picture 2" descr="http://www.footprintnetwork.org/images/trends/2015/china.png"/>
          <p:cNvPicPr/>
          <p:nvPr/>
        </p:nvPicPr>
        <p:blipFill>
          <a:blip r:embed="rId1"/>
          <a:stretch/>
        </p:blipFill>
        <p:spPr>
          <a:xfrm>
            <a:off x="1533600" y="2085840"/>
            <a:ext cx="70009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3" name="Content Placeholder 6" descr="http://www.footprintnetwork.org/images/trends/2015/india.png"/>
          <p:cNvPicPr/>
          <p:nvPr/>
        </p:nvPicPr>
        <p:blipFill>
          <a:blip r:embed="rId1"/>
          <a:stretch/>
        </p:blipFill>
        <p:spPr>
          <a:xfrm>
            <a:off x="1282680" y="2065320"/>
            <a:ext cx="69343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2" descr="http://www.footprintnetwork.org/images/trends/2015/brazil.png"/>
          <p:cNvPicPr/>
          <p:nvPr/>
        </p:nvPicPr>
        <p:blipFill>
          <a:blip r:embed="rId2"/>
          <a:stretch/>
        </p:blipFill>
        <p:spPr>
          <a:xfrm>
            <a:off x="1692360" y="2109960"/>
            <a:ext cx="70549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442880" y="622080"/>
            <a:ext cx="729792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1057320" y="1371600"/>
            <a:ext cx="782784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festyle cho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hoices result in the largest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the role of diet: food-miles, relative impact of red meat, other meat, dairy, and all other food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ich portions of the carbon footprint do  students personally control, vs. their parents, vs. broader society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Reducing our footprint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942920" y="1460160"/>
            <a:ext cx="659124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As teenagers, which contributors to the carbon footprint can you control?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Which contributors can you not control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617840" y="178920"/>
            <a:ext cx="658800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Can we change our carbon footprint by rethinking how we eat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488960" y="1956960"/>
            <a:ext cx="74772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26% of edible food is wasted and disposed of by Americ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10% of total U.S. greenhouse gas emissions in 2012 were from agricultural activities; livestock are major contributor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31 million school lunches served per day; 11 million school breakfast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ne student could potentially eat 4000 school meals from grades K-12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5" name=""/>
          <p:cNvGraphicFramePr/>
          <p:nvPr/>
        </p:nvGraphicFramePr>
        <p:xfrm>
          <a:off x="457200" y="746280"/>
          <a:ext cx="8112240" cy="5636880"/>
        </p:xfrm>
        <a:graphic>
          <a:graphicData uri="http://schemas.openxmlformats.org/drawingml/2006/table">
            <a:tbl>
              <a:tblPr/>
              <a:tblGrid>
                <a:gridCol w="4056120"/>
                <a:gridCol w="405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es Traveled to Consu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esh Produce (from CA and F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reakfast Cere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cessed fruits and veget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2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k and eg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-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514520" y="623520"/>
            <a:ext cx="70200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arm Up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185840" y="1386000"/>
            <a:ext cx="771840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st at least 10 activities you do on a daily basis that require energy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f all the things in your list above, which do you think uses the most energy overall?  Explai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ere do we get the energy we need to accomplish these tasks?  Describe in as much detail as you ca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3"/>
          <p:cNvSpPr/>
          <p:nvPr/>
        </p:nvSpPr>
        <p:spPr>
          <a:xfrm>
            <a:off x="1571760" y="1600200"/>
            <a:ext cx="7115040" cy="1222200"/>
          </a:xfrm>
          <a:prstGeom prst="rect">
            <a:avLst/>
          </a:prstGeom>
          <a:noFill/>
          <a:ln cap="rnd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Question for Projec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1792080" y="1769760"/>
            <a:ext cx="65926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How can you make our school’s lunches more sustainable?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 will work in groups of 3 to address this challenge and propose your solution using an infographic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466640" y="568440"/>
            <a:ext cx="7211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areer:  Agricultural Engineer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1120680" y="1285560"/>
            <a:ext cx="7608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do they do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pply knowledge of engineering technology and biological science to agricultural problems concerned with power and machinery, electrification, structures, soil and water conservation, and processing of agricultural product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What are some key skills necessary to become an agricultural engineer?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kground in biology and chemistry, ability to keep records and analyze data, ability to work with a wide range of people; written and oral comprehens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What kind of training is involved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helors Degree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404040"/>
                </a:solidFill>
                <a:latin typeface="Century Gothic"/>
              </a:rPr>
              <a:t>What is a typical salary for an agricultural engineer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verage Salary:  $35.79  hourly, $74,450 annuall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Rectangle 4"/>
          <p:cNvSpPr/>
          <p:nvPr/>
        </p:nvSpPr>
        <p:spPr>
          <a:xfrm>
            <a:off x="1120680" y="6211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pts.washington.edu/marbio/links/prospective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marinecareers.net/marine-biolog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indeed.com/salary/q-Marine-Biologist-l-Washington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466640" y="568440"/>
            <a:ext cx="7211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areer:  Dietician/Nutritionis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1120680" y="1285560"/>
            <a:ext cx="7608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do they do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Plan and conduct food service or nutritional programs to assist in the promotion of health and control of disease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May supervise activities of a department providing quantity food services, counsel individuals, or conduct nutritional research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What are some key skills necessary to become a dietician or nutritionist?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kground in biology and chemistry, ability to keep records and analyze data, ability to work with a wide range of people; written and oral comprehens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What kind of training is involved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Most dietitians and nutritionists have a bachelor’s degree and have participated in supervised training through an internship or as part of their coursework. Many states require dietitians and nutritionists to be licensed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is a typical salary for a Marine Biologist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verage salary: $26.88 hourly, $55,920 annuall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Rectangle 4"/>
          <p:cNvSpPr/>
          <p:nvPr/>
        </p:nvSpPr>
        <p:spPr>
          <a:xfrm>
            <a:off x="1120680" y="6211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epts.washington.edu/marbio/links/prospective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marinecareers.net/marine-biolog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indeed.com/salary/q-Marine-Biologist-l-Washington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572840" y="804960"/>
            <a:ext cx="72010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b9bd5"/>
                </a:solidFill>
                <a:latin typeface="Century Gothic"/>
              </a:rPr>
              <a:t>Next Generation Science Standard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1573200" y="1329840"/>
            <a:ext cx="7569360" cy="32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Next Generation Science Standards Grades 9-12 (Ages 14-18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tudents who demonstrate understanding ca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PS3-4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Plan and conduct an investigation to provide evidence that the transfer of thermal energy when two components of different temperature are combined within a closed system results in a more uniform energy distribution among the components in the system (second law of thermodynamics)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SS3-2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competing design solutions for developing, managing, and utilizing energy and mineral resources based on cost-benefit ratios.*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SS3-4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or refine a technological solution that reduces impacts of human activities on natural system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TS1-3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a solution to a complex real-world problem based on prioritized criteria and trade-offs that account for a range of constraints, including cost, safety, reliability, and aesthetics as well as possible social, cultural, and environmental impact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Resourc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297000" y="1600200"/>
            <a:ext cx="85644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ttp://www.ecoliteracy.org/sites/default/files/uploads/rethinking_school_lunch_guide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Century Gothic"/>
              </a:rPr>
              <a:t>http://www.cias.wisc.edu/wp-content/uploads/2008/07/energyuse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Century Gothic"/>
              </a:rPr>
              <a:t>http://css.snre.umich.edu/css_doc/CSS01-06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657080" y="623520"/>
            <a:ext cx="68770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ssential Questio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1657080" y="1571760"/>
            <a:ext cx="68770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factors effect 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y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factors or habits can we change to reduce 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How can you make our school’s lunches more sustainabl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57000" y="623520"/>
            <a:ext cx="6977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Learning Objectiv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1371240" y="1671120"/>
            <a:ext cx="7162920" cy="42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Students will be able t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xplain factors that determine their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Identify factors that can be changed to reduce their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Analyze the process and materials used in the cafeteria to reduce its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569600" y="579600"/>
            <a:ext cx="737388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hat is an ecological footprint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1724040" y="1347840"/>
            <a:ext cx="68104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The ecological footprint measures how fast we consume resources and generate waste compared to how fast nature can absorb waste and generate new resource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4" name="Picture 4" descr="basics-overview-510"/>
          <p:cNvPicPr/>
          <p:nvPr/>
        </p:nvPicPr>
        <p:blipFill>
          <a:blip r:embed="rId1"/>
          <a:stretch/>
        </p:blipFill>
        <p:spPr>
          <a:xfrm>
            <a:off x="2989440" y="3103560"/>
            <a:ext cx="450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476360" y="6634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Ecological Footprint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6" name="Picture 4" descr=""/>
          <p:cNvPicPr/>
          <p:nvPr/>
        </p:nvPicPr>
        <p:blipFill>
          <a:blip r:embed="rId1"/>
          <a:srcRect l="5289" t="56153" r="51467" b="8574"/>
          <a:stretch/>
        </p:blipFill>
        <p:spPr>
          <a:xfrm>
            <a:off x="2004840" y="2554200"/>
            <a:ext cx="5861160" cy="3694320"/>
          </a:xfrm>
          <a:prstGeom prst="rect">
            <a:avLst/>
          </a:prstGeom>
          <a:ln w="0">
            <a:noFill/>
          </a:ln>
        </p:spPr>
      </p:pic>
      <p:sp>
        <p:nvSpPr>
          <p:cNvPr id="1197" name="Text Box 5"/>
          <p:cNvSpPr/>
          <p:nvPr/>
        </p:nvSpPr>
        <p:spPr>
          <a:xfrm>
            <a:off x="1918800" y="6248520"/>
            <a:ext cx="62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rom Living Planet Report 2008, World Wildlife Fund, 200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1"/>
          <p:cNvSpPr/>
          <p:nvPr/>
        </p:nvSpPr>
        <p:spPr>
          <a:xfrm>
            <a:off x="1347840" y="1336680"/>
            <a:ext cx="7526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cological footprints measure the extent to which humans are using the Earth</a:t>
            </a:r>
            <a:r>
              <a:rPr b="0" lang="ja-JP" sz="24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 bioproductive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342800" y="623520"/>
            <a:ext cx="7543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hat is an Ecological Footprint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0" name="Content Placeholder 3" descr=""/>
          <p:cNvPicPr/>
          <p:nvPr/>
        </p:nvPicPr>
        <p:blipFill>
          <a:blip r:embed="rId1"/>
          <a:stretch/>
        </p:blipFill>
        <p:spPr>
          <a:xfrm>
            <a:off x="781200" y="1620720"/>
            <a:ext cx="8105760" cy="3922920"/>
          </a:xfrm>
          <a:prstGeom prst="rect">
            <a:avLst/>
          </a:prstGeom>
          <a:ln w="0">
            <a:noFill/>
          </a:ln>
        </p:spPr>
      </p:pic>
      <p:sp>
        <p:nvSpPr>
          <p:cNvPr id="1201" name="Rectangle 4"/>
          <p:cNvSpPr/>
          <p:nvPr/>
        </p:nvSpPr>
        <p:spPr>
          <a:xfrm>
            <a:off x="781200" y="5627520"/>
            <a:ext cx="81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MS PGothic"/>
                <a:hlinkClick r:id="rId2"/>
              </a:rPr>
              <a:t>Sustainability Illust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MS PGothic"/>
                <a:hlinkClick r:id="rId3"/>
              </a:rPr>
              <a:t>Ecological Footprint:  Do We Fit our Plant?  https://www.youtube.com/watch?v=g_aguo7V0Q4&amp;list=PLEXqjIYY5zi6hWCvm5idXYLH2Qtv7fT-f&amp;index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471680" y="542880"/>
            <a:ext cx="7215120" cy="8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What’s Your Ecological Footprint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914040" y="1300320"/>
            <a:ext cx="765828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Calculate your personal carbon footprint at the following website: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1"/>
              </a:rPr>
              <a:t>http://www.footprintnetwork.org/en/index.php/GFN/page/how_big_is_your_ecological_footprint_video</a:t>
            </a: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2"/>
              </a:rPr>
              <a:t>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3"/>
              </a:rPr>
              <a:t>http://www.footprintnetwork.org/en/index.php/GFN/page/calculators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4"/>
              </a:rPr>
              <a:t>http://www.footprintnetwork.org/en/index.php/GFN/page/personal_footprint</a:t>
            </a: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5"/>
              </a:rPr>
              <a:t>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4" name="Picture 2" descr="ftpt"/>
          <p:cNvPicPr/>
          <p:nvPr/>
        </p:nvPicPr>
        <p:blipFill>
          <a:blip r:embed="rId6"/>
          <a:stretch/>
        </p:blipFill>
        <p:spPr>
          <a:xfrm>
            <a:off x="1122480" y="2944800"/>
            <a:ext cx="658476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54296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ass Dat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856800" y="1557000"/>
            <a:ext cx="81550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dd a tally mark under the category that represents your footpri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(units are ‘Planet Earths’, or the number needed if everyone on Earth lived like you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741240" y="2906640"/>
          <a:ext cx="8402760" cy="3462480"/>
        </p:xfrm>
        <a:graphic>
          <a:graphicData uri="http://schemas.openxmlformats.org/drawingml/2006/table">
            <a:tbl>
              <a:tblPr/>
              <a:tblGrid>
                <a:gridCol w="1051200"/>
                <a:gridCol w="1049040"/>
                <a:gridCol w="1051200"/>
                <a:gridCol w="1050840"/>
                <a:gridCol w="1049400"/>
                <a:gridCol w="1050840"/>
                <a:gridCol w="1049400"/>
                <a:gridCol w="1050840"/>
              </a:tblGrid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5 or 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51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8:36:45Z</dcterms:created>
  <dc:creator>Shoreline</dc:creator>
  <dc:description/>
  <dc:language>en-US</dc:language>
  <cp:lastModifiedBy>Madonna Brinkmann</cp:lastModifiedBy>
  <dcterms:modified xsi:type="dcterms:W3CDTF">2015-05-31T21:01:37Z</dcterms:modified>
  <cp:revision>31</cp:revision>
  <dc:subject/>
  <dc:title>Warm Up</dc:title>
</cp:coreProperties>
</file>