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99F1A-FBD7-4B67-B2F3-86219E002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C15A4-15F8-4EE6-9334-2B4861856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1BA-05B7-4D7A-BCC3-4069DAA2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EE5-046A-4BC1-B7E0-B69C37AB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08994-377C-4B66-AE90-EA9811A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1A09E-0423-4D49-8B80-79C6E817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4B457-7191-4945-9811-9B2889A9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6AE6B-4CC4-44B6-889D-75B4AB12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E9051-E7F3-46BB-B770-65706C5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09CDB-69FA-4C39-8A4F-5EDE943E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E5113-A659-49EF-98A2-41D00203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9EA21-0340-499A-BE4A-B86CB18B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330A2-B4EE-4FE8-B12C-C283B313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69F4F-8CD4-472D-A4CB-5636FF2D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A03-4F18-47F8-9907-EF229492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CA629-E93A-4EA3-8095-4ECA7C3A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5B351-CE52-4ECB-B0C9-771C4ABC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2B5A7-ADD9-42BC-A780-EFAD80F4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129EB-B147-4277-BEF2-89074781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4EB01-33EA-42E0-9F0F-D0DFE07E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D9000-02B6-4689-95CB-02D09652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FAAAF-A908-480E-BB5C-068E58F6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5A1CC-CB4A-401E-B77B-7E431A09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72DF6-F801-44E9-AAB9-416ABE93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0914B-EEF5-4D8D-9ACD-8DB854AA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551-9849-4671-8B71-28FA72D9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CFB2A-782C-40D8-9466-88F419A3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F4342-A8B2-4429-840B-F2EF2669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48A56-08F8-4715-AA2B-39F71AFF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36C5E-9472-4136-98D9-7921BAEF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26B19-1DC5-4D40-B131-F941EA3C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20AE7-9922-437B-9FA3-DAF5D02F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C045E-9DDA-48C5-AB65-544E85A7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56AFC-7566-4FCF-B1CD-FDD727C0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068AF-8FCE-41EE-8843-CE25F64D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E7BC7-37D6-4399-91B4-C89DEE1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0784-FC19-432B-9AF6-FA2B47F4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A2014-B39F-43A6-8837-077CBF16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11774-2A96-4A6C-817D-14208029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E3793-E0C3-401F-9F88-BB22C720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E3ECF-64F7-4908-B9EB-53AEA501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460F2-5606-4D73-A3ED-DBFBC476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8C793-216C-4518-9832-038D69D6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BBBB2-F3A0-497A-AE98-FCEDDA67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4590E-E42F-40AE-A795-5BDB7E90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6AEFF-AB40-46C4-B271-324305C8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A87B6-6303-4806-9D17-C7EB9CC9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E6F5-8E59-4035-B3C0-644E1804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E8573-A013-497B-995D-0FD026B7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C261A-05E4-40EA-8ADB-08C723C4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21F4C-FD87-4FFF-BDB5-E9169469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26006-D765-4CF8-95A1-97B4DBD3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BDD38-EF72-4636-9572-DCC53C42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53CFA-D0CD-4F0F-917F-BACE8DCB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39075-1BC3-4B7F-8A41-CD7CDCD6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0C2D6-F036-4DFF-AB30-F18E3D7E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BE531-31AB-4871-AF27-B4596A91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60083-A948-4A2A-B828-0CC4375F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83F4-CECC-4687-AEF8-FF2954F0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658E1-AD3D-4C34-B525-A1509CCC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20BDA-D3D9-4F97-86F7-A98682C2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A78DC-3239-49B1-8308-D7920C43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4F4D2-BE43-407B-8CCF-849BE166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537AB-7E65-41CE-B315-5923615A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DCCD1-6235-4BE9-9906-B2AA7645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92B9F-ABFE-4778-B55E-645D338A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7C71B-3E43-4F21-A4FD-BD9CB98C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3F56D-2748-4406-96F6-020B6F9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DE729-96B5-47B9-ADD1-6886245C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96DB-E889-4190-9A4E-8FE99222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CA160-81AD-4779-8B98-2BF79D13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CB3D7-D42F-4CC4-8F2B-525D16E9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30C56-6BFD-4359-AAFA-82178BE8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51003-4E01-49CE-993B-FF5F3923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CD82C-7166-434F-BB12-155143D4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AFEFC-9D85-4875-962C-6BA7B95F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4F267-F039-4743-B6FA-D6D9BA04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DD346-5319-46DF-983B-F726BBC1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2E70E-F263-474F-95FB-A8C23BDE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40F67C-DC1C-4AAC-ACC2-3A84888F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E321-013C-4E17-99E6-9EA94189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FB33D-23F9-4DD8-90FC-F8FF4C70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7EA7E-3F56-4C60-A986-5545C1FD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ACC263-1FE0-4E50-9DE5-9E0C7C09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30FE7-2850-4B6D-9DE5-25C651DD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FF4CA-A574-4930-8AD3-515770CC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6C7E9-9246-4B47-90BE-3A98649A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DD669-E20F-410C-A45A-03C9D357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727E3-CAC7-4274-AEC4-7C82093C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C203C-F47D-4A05-B16F-EA5209AC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F437D-6612-46C6-A927-FB21FB83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5437-5D98-45F9-8866-5E77BB4C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5E15B4-2F4D-412E-991C-B7B27ED1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71F61-824A-462C-BD54-A3F4FFB4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7F6199-E751-4830-A6A6-ACECE727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ECAD30-F1D2-4EE4-BA88-1DC1D05F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9C1A0-E1FE-4D73-B034-AB389693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E35F7-18AB-4EAF-A7B7-4028D910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E33A45-1E38-4D3F-9BB0-051F3450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4DDC55-BB5B-4D0D-87EB-4C1E4DD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A3806-D4A6-43FE-92D6-DD001572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32971-EF56-487F-914A-C4D1CCCD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4DAA-CD6A-4E77-94EA-66C08646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0D721-21A9-4D80-9DAC-320A922A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55C09-560F-4328-B734-693CEFEC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592A9-9EE1-46DE-8577-0D1B8BE9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08F1AF-4FAA-4FC2-9B91-6B9FE5A0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DA31E-33F1-40A0-8966-DCCF356D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2DF29-0449-4067-8D72-EC3396F5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FA7F7-BF4B-4AC7-86AB-E738B11A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E0C59-CE74-4142-A4A2-9EF3C8C7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135E3-0374-4063-B354-E6A401DF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EC596-2E4D-43E6-97FC-8488D892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0F49-3983-4FA8-9871-7FD3CB19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2782-724A-46FD-9C7E-48817156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1B3AC-C191-4585-B15A-69614780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6E6ABB-751F-4409-A2D9-42C27F6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8BE26-6ECE-44F3-B9CA-2C6B4AFC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6DD3B-3A15-4092-84DE-4FA24FB7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E42AA-8839-40C1-9E2C-98B95CA6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7497-2AF8-4ABA-89C3-6AED162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48C0-7142-4362-B495-9A6E4569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12BD-8B5A-411B-B590-D64A4CE4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72D8-18F3-4A9E-A5FF-18C50DFC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73D6-B655-4AD4-862D-6DB271CB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9BE7-0B9D-4D98-8120-3CF1094E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14267-BAF7-4545-AAF9-6CB9BC1C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CDEE5-6B0E-4824-ACC2-867D1400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0430C-7417-456C-8A99-9757BBC3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60C-BDD3-4960-ABC1-63C3C1BA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207E-DB18-4DFE-B2B0-19909E21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F9AF-2E71-4AD9-95B3-03D9F15C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7FC4-04FA-4340-A42C-5391989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B44C-2448-456F-982A-1549A729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3EA2-1634-4678-8AA2-13347A0A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F75D-AF0D-41C8-97E4-CA160168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23369-4C0D-40CE-96B1-DB138E32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5315-555A-49EA-B951-66228F45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9E355-A476-43BA-A358-82801CA4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4477-B800-4E17-8398-77DDBE93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497-4E55-45FF-BAFE-17584A32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7C38-7AFE-46CF-898A-24DDB7AC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6AF8-6603-4530-AEA3-CF5F44D4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F62C5-7C2E-437B-9E4B-0B9FCC6F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4142-C18B-4064-BD41-70F7F1D9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44EF1-CD77-4BE5-B96B-40A1513B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F69D-21EF-4CAC-92C3-F877934F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8B3F-867C-4604-9A50-B5B7B5AC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4646-47ED-46EB-A505-1CC66D18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C0E7-79E6-483D-9F78-6C3553B0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3170F-E94D-436A-BD0C-0D2E34F4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56D-CEC4-4C74-B027-77429766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B7B0A-9263-4BCF-BB4A-C941C54D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229BE-DD22-4D85-B921-B96B7A7D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F4857-9B40-4E4E-9005-98A9F2C8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E94D7-FA09-422E-A690-B44DE9D1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6B18A-6515-4417-B633-5AF3555F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52F50-04D8-4BEA-B5E8-D297E4A7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FC6CF-27F9-47DC-9CEE-29BA5E6E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06072-F0FF-4AC9-8D86-87D90A71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F2876-F66E-467D-9A5A-4A0B1D01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E6AF7-460F-4AB3-9E2C-B24AC38B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00B-F662-4CFB-9D58-CFD47346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798F7-984F-4C62-9CE6-D3B11EAC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4CDE0-2200-429E-B9E6-E65A5E23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46B4C-9EE1-460B-9C23-56462D4F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C003-0D53-49C5-9A63-2BC5AE9E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39A04-6916-4FA0-AAAD-594C1465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C2833-1F3C-4099-B44E-585060B7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FDB34-A566-4D47-BA02-8C2B57B7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7BA2F-3EA7-4AEC-951C-851DE120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8067D-1EEB-4DA5-8719-8EC33EF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62275-C60E-4E98-BF54-E8FBB187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46E-9B3A-41A3-B80F-79FC9E83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26C25-46B6-4A7E-AE78-02C21513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E77D9-C13A-410A-914C-2038C3ED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6C5A6-B236-4E5E-8C6E-3AC1C2D7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65417-D418-4A47-BE89-E9FC996D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167BB-8511-4D2E-8ADA-F4BA9486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8EBA-03A5-4BC0-870F-EB653F26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2335D-F223-47A3-83D9-C408D99C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FFD63-694B-4FEE-9E53-EBF98CFE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D30DB-FB5C-4FE8-AD99-FC324ECE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FDAC7-E64A-4BE1-8811-B9BDF022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8B4-4B2F-4F1F-A66B-08B63F68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1E8FC-E394-40E1-B723-173806EA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6007E-0CC5-4E7E-89B1-28F47733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3F9E6-E3BA-47FD-80A2-F5F0A279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04C5A-EE28-4224-B7B5-55AE5819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A9FF1-97CA-46F6-A059-D5766523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C336B-C56B-4AB2-A91C-8A04D690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EBD55-ED86-4C39-915F-6FE27C5D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2ECC-0932-4C5A-846D-C68DDD92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ACBFB-A5EB-461B-BBB4-0F0E8164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88B4-AE70-4CFA-AF81-F1507CEC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A81-1890-4152-A200-1D96D8B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9A013-81B8-4BA3-9443-60982802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71070-21EF-48E2-99AA-247CFF56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BF2D7-C15B-4424-959B-ABC6A2B9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3439C-1DAF-4906-A417-1398E248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4E8BB-68DE-4709-A55F-ED0D1646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B2B74-48C1-40D2-AC9D-3A384255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EFC3A-6A0F-43AC-9F67-B2DC6D2A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C8506-F97D-4EA6-B35B-7D19E013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05B83-56FA-4D8D-B47B-5D8FD378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F408A-CE60-4ACF-B8DC-242BB0FD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2B7DA-534B-4B92-9246-12C1917ECBF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5D110-5712-4951-AC9C-4191CFAC7FA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6B5CB-7093-4278-A10D-301D3DFF79F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5B0A5-E797-413B-B4B0-2B845D702DE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47C56-2CE6-4547-A95D-351ABD4C31E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693EC-D8F0-49F6-A0CE-222F87AB9B2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32712-FDB4-4E04-89D2-047B8C1D450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48607-1D58-44BF-AF1E-45333E85725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FEA9F-F640-4386-B3A4-282B8482BF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8854D-7341-4C16-9FF6-AE6E983F47F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093EC-F1B0-479C-BE31-71B72300433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E3B6C-F924-438D-91A6-A3A4CE8CFA9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F0AC7-BDBB-4CE4-B70A-B7CFECB73C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2FDDC-33BA-4A1D-9A3C-EFB4AC169E5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A134F-7F50-4ADF-AC7A-929CFEEF2D6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861C5-73C9-4971-A8C0-BBDA8DDED24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286B1-07E2-4784-BB19-A7CCDA402E5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hyperlink" Target="http://depts.washington.edu/marbio/links/prospective.html" TargetMode="External"/><Relationship Id="rId3" Type="http://schemas.openxmlformats.org/officeDocument/2006/relationships/hyperlink" Target="http://www.marinecareers.net/marine-biology" TargetMode="External"/><Relationship Id="rId4" Type="http://schemas.openxmlformats.org/officeDocument/2006/relationships/hyperlink" Target="http://www.marinecareers.net/marine-biology" TargetMode="External"/><Relationship Id="rId5" Type="http://schemas.openxmlformats.org/officeDocument/2006/relationships/hyperlink" Target="http://www.indeed.com/salary/q-Marine-Biologist-l-Washington.html" TargetMode="External"/><Relationship Id="rId6" Type="http://schemas.openxmlformats.org/officeDocument/2006/relationships/hyperlink" Target="http://www.indeed.com/salary/q-Marine-Biologist-l-Washington.html" TargetMode="External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youtube.com/watch?v=g_aguo7V0Q4&amp;list=PLEXqjIYY5zi6hWCvm5idXYLH2Qtv7fT-f&amp;index=2" TargetMode="External"/><Relationship Id="rId3" Type="http://schemas.openxmlformats.org/officeDocument/2006/relationships/hyperlink" Target="https://www.youtube.com/watch?v=g_aguo7V0Q4&amp;list=PLEXqjIYY5zi6hWCvm5idXYLH2Qtv7fT-f&amp;index=2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otprintnetwork.org/en/index.php/GFN/page/calculators/" TargetMode="External"/><Relationship Id="rId2" Type="http://schemas.openxmlformats.org/officeDocument/2006/relationships/hyperlink" Target="http://www.footprintnetwork.org/en/index.php/GFN/page/calculators/" TargetMode="External"/><Relationship Id="rId3" Type="http://schemas.openxmlformats.org/officeDocument/2006/relationships/hyperlink" Target="http://www.footprintnetwork.org/en/index.php/GFN/page/calculators/" TargetMode="External"/><Relationship Id="rId4" Type="http://schemas.openxmlformats.org/officeDocument/2006/relationships/hyperlink" Target="http://www.footprintnetwork.org/en/index.php/GFN/page/personal_footprint/" TargetMode="External"/><Relationship Id="rId5" Type="http://schemas.openxmlformats.org/officeDocument/2006/relationships/hyperlink" Target="http://www.footprintnetwork.org/en/index.php/GFN/page/personal_footprint/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5" descr=""/>
          <p:cNvPicPr/>
          <p:nvPr/>
        </p:nvPicPr>
        <p:blipFill>
          <a:blip r:embed="rId1"/>
          <a:stretch/>
        </p:blipFill>
        <p:spPr>
          <a:xfrm>
            <a:off x="-546120" y="0"/>
            <a:ext cx="10242720" cy="685800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entury Gothic"/>
              </a:rPr>
              <a:t>Energy Use in Everyday Lif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ABS/STEM Uni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01480" y="582480"/>
            <a:ext cx="7226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401480" y="1371240"/>
            <a:ext cx="7226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was difficul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assumptions did we have to mak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o you think these values include the entire life cycle analysi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uses the differences between the by hand and online tool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do you and your classmates compare to the rest of the US? Europe?  The world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n students chang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 5" descr="http://www.footprintnetwork.org/images/trends/2015/united_states_of_america.png"/>
          <p:cNvPicPr/>
          <p:nvPr/>
        </p:nvPicPr>
        <p:blipFill>
          <a:blip r:embed="rId1"/>
          <a:stretch/>
        </p:blipFill>
        <p:spPr>
          <a:xfrm>
            <a:off x="1596960" y="2608200"/>
            <a:ext cx="6318360" cy="3184560"/>
          </a:xfrm>
          <a:prstGeom prst="rect">
            <a:avLst/>
          </a:prstGeom>
          <a:ln w="0">
            <a:noFill/>
          </a:ln>
        </p:spPr>
      </p:pic>
      <p:sp>
        <p:nvSpPr>
          <p:cNvPr id="1215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 2" descr="http://www.footprintnetwork.org/images/trends/2015/china.png"/>
          <p:cNvPicPr/>
          <p:nvPr/>
        </p:nvPicPr>
        <p:blipFill>
          <a:blip r:embed="rId1"/>
          <a:stretch/>
        </p:blipFill>
        <p:spPr>
          <a:xfrm>
            <a:off x="1533600" y="2085840"/>
            <a:ext cx="70009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Content Placeholder 6" descr="http://www.footprintnetwork.org/images/trends/2015/india.png"/>
          <p:cNvPicPr/>
          <p:nvPr/>
        </p:nvPicPr>
        <p:blipFill>
          <a:blip r:embed="rId1"/>
          <a:stretch/>
        </p:blipFill>
        <p:spPr>
          <a:xfrm>
            <a:off x="1282680" y="2065320"/>
            <a:ext cx="69343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" descr="http://www.footprintnetwork.org/images/trends/2015/brazil.png"/>
          <p:cNvPicPr/>
          <p:nvPr/>
        </p:nvPicPr>
        <p:blipFill>
          <a:blip r:embed="rId2"/>
          <a:stretch/>
        </p:blipFill>
        <p:spPr>
          <a:xfrm>
            <a:off x="1692360" y="2109960"/>
            <a:ext cx="70549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ducing our footprin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2920" y="1460160"/>
            <a:ext cx="65912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As teenagers, which contributors to the carbon footprint can you control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Which contributors can you not control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617840" y="178920"/>
            <a:ext cx="65880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Can we change our carbon footprint by rethinking how we ea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88960" y="1956960"/>
            <a:ext cx="7477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26% of edible food is wasted and disposed of by Americ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10% of total U.S. greenhouse gas emissions in 2012 were from agricultural activities; livestock are major contributor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31 million school lunches served per day; 11 million school breakfast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ne student could potentially eat 4000 school meals from grades K-1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5" name=""/>
          <p:cNvGraphicFramePr/>
          <p:nvPr/>
        </p:nvGraphicFramePr>
        <p:xfrm>
          <a:off x="457200" y="746280"/>
          <a:ext cx="8112240" cy="5636880"/>
        </p:xfrm>
        <a:graphic>
          <a:graphicData uri="http://schemas.openxmlformats.org/drawingml/2006/table">
            <a:tbl>
              <a:tblPr/>
              <a:tblGrid>
                <a:gridCol w="4056120"/>
                <a:gridCol w="405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es Traveled to Consu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esh Produce (from CA and F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eakfast Ce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sed fruits and 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2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k and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4520" y="623520"/>
            <a:ext cx="7020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arm Up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185840" y="1386000"/>
            <a:ext cx="77184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st at least 10 activities you do on a daily basis that require energ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f all the things in your list above, which do you think uses the most energy overall?  Explai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ere do we get the energy we need to accomplish these tasks?  Describe in as much detail as you ca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1571760" y="1600200"/>
            <a:ext cx="7115040" cy="1222200"/>
          </a:xfrm>
          <a:prstGeom prst="rect">
            <a:avLst/>
          </a:prstGeom>
          <a:noFill/>
          <a:ln cap="rnd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Question for Projec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92080" y="17697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How can you make our school’s lunches more sustainable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will work in groups of 3 to address this challenge and propose your solution using an infographi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Agricultural Enginee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pply knowledge of engineering technology and biological science to agricultural problems concerned with power and machinery, electrification, structures, soil and water conservation, and processing of agricultural produ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n agricultural engineer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helors Degree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404040"/>
                </a:solidFill>
                <a:latin typeface="Century Gothic"/>
              </a:rPr>
              <a:t>What is a typical salary for an agricultural engineer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 $35.79  hourly, $74,45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Dietician/Nutritionis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food service or nutritional programs to assist in the promotion of health and control of disease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ay supervise activities of a department providing quantity food services, counsel individuals, or conduct nutritional research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 dietician or nutritionist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ost dietitians and nutritionists have a bachelor’s degree and have participated in supervised training through an internship or as part of their coursework. Many states require dietitians and nutritionists to be licensed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is a typical salary for a Marine Biologist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$26.88 hourly, $55,92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72840" y="804960"/>
            <a:ext cx="72010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b9bd5"/>
                </a:solidFill>
                <a:latin typeface="Century Gothic"/>
              </a:rPr>
              <a:t>Next Generation Science Standard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573200" y="1329840"/>
            <a:ext cx="756936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ext Generation Science Standards Grades 9-12 (Ages 14-1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tudents who demonstrate understanding ca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P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an investigation to provide evidence that the transfer of thermal energy when two components of different temperature are combined within a closed system results in a more uniform energy distribution among the components in the system (second law of thermodynamics)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2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competing design solutions for developing, managing, and utilizing energy and mineral resources based on cost-benefit ratios.*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or refine a technological solution that reduces impacts of human activities on natural system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TS1-3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a solution to a complex real-world problem based on prioritized criteria and trade-offs that account for a range of constraints, including cost, safety, reliability, and aesthetics as well as possible social, cultural, and environmental impa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sourc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7000" y="1600200"/>
            <a:ext cx="8564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ttp://www.ecoliteracy.org/sites/default/files/uploads/rethinking_school_lunch_guid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www.cias.wisc.edu/wp-content/uploads/2008/07/energyus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css.snre.umich.edu/css_doc/CSS01-06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57080" y="623520"/>
            <a:ext cx="6877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ssential Questi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657080" y="1571760"/>
            <a:ext cx="68770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effect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y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or habits can we change to reduce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can you make our school’s lunches more sustainabl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57000" y="623520"/>
            <a:ext cx="6977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Learning Objectiv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371240" y="1671120"/>
            <a:ext cx="716292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Students will be able t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xplain factors that determin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Identify factors that can be changed to reduc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Analyze the process and materials used in the cafeteria to reduce its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69600" y="579600"/>
            <a:ext cx="737388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724040" y="1347840"/>
            <a:ext cx="68104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The ecological footprint measures how fast we consume resources and generate waste compared to how fast nature can absorb waste and generate new resourc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Picture 4" descr="basics-overview-510"/>
          <p:cNvPicPr/>
          <p:nvPr/>
        </p:nvPicPr>
        <p:blipFill>
          <a:blip r:embed="rId1"/>
          <a:stretch/>
        </p:blipFill>
        <p:spPr>
          <a:xfrm>
            <a:off x="2989440" y="3103560"/>
            <a:ext cx="45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76360" y="6634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cological Footprin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rcRect l="5289" t="56153" r="51467" b="8574"/>
          <a:stretch/>
        </p:blipFill>
        <p:spPr>
          <a:xfrm>
            <a:off x="2004840" y="2554200"/>
            <a:ext cx="5861160" cy="369432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5"/>
          <p:cNvSpPr/>
          <p:nvPr/>
        </p:nvSpPr>
        <p:spPr>
          <a:xfrm>
            <a:off x="1918800" y="6248520"/>
            <a:ext cx="62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rom Living Planet Report 2008, World Wildlife Fund,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1347840" y="1336680"/>
            <a:ext cx="752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cological footprints measure the extent to which humans are using the Earth</a:t>
            </a:r>
            <a:r>
              <a:rPr b="0" lang="ja-JP" sz="24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 bioproductive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42800" y="62352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Content Placeholder 3" descr=""/>
          <p:cNvPicPr/>
          <p:nvPr/>
        </p:nvPicPr>
        <p:blipFill>
          <a:blip r:embed="rId1"/>
          <a:stretch/>
        </p:blipFill>
        <p:spPr>
          <a:xfrm>
            <a:off x="781200" y="1620720"/>
            <a:ext cx="8105760" cy="3922920"/>
          </a:xfrm>
          <a:prstGeom prst="rect">
            <a:avLst/>
          </a:prstGeom>
          <a:ln w="0">
            <a:noFill/>
          </a:ln>
        </p:spPr>
      </p:pic>
      <p:sp>
        <p:nvSpPr>
          <p:cNvPr id="1201" name="Rectangle 4"/>
          <p:cNvSpPr/>
          <p:nvPr/>
        </p:nvSpPr>
        <p:spPr>
          <a:xfrm>
            <a:off x="781200" y="5627520"/>
            <a:ext cx="81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2"/>
              </a:rPr>
              <a:t>Sustainability Illust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3"/>
              </a:rPr>
              <a:t>Ecological Footprint:  Do We Fit our Plant?  https://www.youtube.com/watch?v=g_aguo7V0Q4&amp;list=PLEXqjIYY5zi6hWCvm5idXYLH2Qtv7fT-f&amp;index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471680" y="542880"/>
            <a:ext cx="721512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What’s Your Ecological Footprin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914040" y="1300320"/>
            <a:ext cx="76582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e your personal carbon footprint at the following website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1"/>
              </a:rPr>
              <a:t>http://www.footprintnetwork.org/en/index.php/GFN/page/how_big_is_your_ecological_footprint_video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2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3"/>
              </a:rPr>
              <a:t>http://www.footprintnetwork.org/en/index.php/GFN/page/calculators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4"/>
              </a:rPr>
              <a:t>http://www.footprintnetwork.org/en/index.php/GFN/page/personal_footprint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5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Picture 2" descr="ftpt"/>
          <p:cNvPicPr/>
          <p:nvPr/>
        </p:nvPicPr>
        <p:blipFill>
          <a:blip r:embed="rId6"/>
          <a:stretch/>
        </p:blipFill>
        <p:spPr>
          <a:xfrm>
            <a:off x="1122480" y="2944800"/>
            <a:ext cx="65847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4296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ass Dat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856800" y="1557000"/>
            <a:ext cx="81550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dd a tally mark under the category that represents your footpri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(units are ‘Planet Earths’, or the number needed if everyone on Earth lived like you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741240" y="2906640"/>
          <a:ext cx="8402760" cy="3462480"/>
        </p:xfrm>
        <a:graphic>
          <a:graphicData uri="http://schemas.openxmlformats.org/drawingml/2006/table">
            <a:tbl>
              <a:tblPr/>
              <a:tblGrid>
                <a:gridCol w="1051200"/>
                <a:gridCol w="1049040"/>
                <a:gridCol w="1051200"/>
                <a:gridCol w="1050840"/>
                <a:gridCol w="1049400"/>
                <a:gridCol w="1050840"/>
                <a:gridCol w="1049400"/>
                <a:gridCol w="1050840"/>
              </a:tblGrid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 or 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51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8:36:45Z</dcterms:created>
  <dc:creator>Shoreline</dc:creator>
  <dc:description/>
  <dc:language>en-US</dc:language>
  <cp:lastModifiedBy>Madonna Brinkmann</cp:lastModifiedBy>
  <dcterms:modified xsi:type="dcterms:W3CDTF">2015-05-31T21:01:37Z</dcterms:modified>
  <cp:revision>31</cp:revision>
  <dc:subject/>
  <dc:title>Warm Up</dc:title>
</cp:coreProperties>
</file>