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B2AEE-2BF6-4868-AA2A-BE95EC24F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4E532-539B-467A-B262-5B0BA1191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00B-9437-4B28-B992-4680EAC6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2FD-C7BA-495D-8369-A8816D35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AD63A-D4E8-4DEC-8849-BFBFDA33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DB97A-E7A0-4A2C-B0D2-6557A9CD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105B8-61DD-4F71-89C7-460954D3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7C5A6-59B0-448A-BB7D-3FEAEB4A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51210-7E35-42B8-A115-1E6D5B22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F036E-D728-4DB7-AF6F-239D131B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A7D7B-C842-4520-B148-D0D8DF5A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4CC76-9456-4490-B91A-20D489F6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EF1B4-CB4C-4545-87A3-78A671DC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60F58-4947-4CA3-B8FA-C60B3A13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22F-AE37-4EC9-BA73-192F94A0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4617A-1B86-4B43-BF3A-310A14E9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3FC82-4FF7-4FEC-A155-60EB1809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46154-ED6B-4A1A-A125-2CD592CF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5BD30-28BC-413E-9153-1426F015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23428-5080-4539-A76E-EDC68D4A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77949-0A24-4034-9DC8-2344CC60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49C1F-C73C-4322-A973-F2F279E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53806-DFF0-47D1-92E0-BDFF213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7E214-DCC7-4003-89F1-B0BDB981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88607-43CD-4762-AE96-D09BC0B5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682-139F-46C5-A6EA-BAC4AFAC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E3F41-E5F0-4D11-99DD-02970A0F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9D477-A4A2-412E-9C16-E6812A6C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64030-43C5-4505-BD9C-C43C2FF3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8F544-B144-4A0E-AC58-0ABCA127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5BBC1-2181-4B87-A279-588FCB68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DF809-C0C8-46CF-A36A-F5D9EA6E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26FB9-E29A-4262-BF6E-AD320B28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741B0-05ED-4614-8844-63B6768E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BCB79-F259-45D7-934A-BBD2115D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73C1B-F730-4619-8FB6-B4222F9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DF3E-24D6-416C-86BC-673213E6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C57BD-BB20-4154-9A3A-E106E3FE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4C74B-36A3-4DEB-8571-4049413B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0C2D9-34EE-4D1B-BFDF-40737496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AE34C-A6B1-4ED6-8F65-A564F062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EF0DF-83FF-4AC8-8CB8-8488CCA3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BD5A5-BBFE-4CB5-9E92-C78C8FB0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476FE-B665-4545-9415-AF01E96C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90651-7265-4C4A-862A-DA377C38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14EB9-6350-4609-ABBB-98105507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2F3FE-E3D3-40CD-93D5-785D5D35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A7A6-48FD-448F-9A4D-3EEDDE91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CAFD2-1650-4B72-AC36-EC6C2F6E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A9D99-8080-4DDC-9D95-0697E56C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0BFFA-8F0E-46E8-B3CB-4E7CBD1F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DF286-3636-482C-9CC7-7734DC81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B412C-413F-497F-ACB6-B948CE11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1B518-EA9C-46FB-805C-BD82831C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C25CA-AFB7-4EBA-A661-4ADC3F10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5ED4E-BCDE-4BE3-92AB-CD0742CA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8D088E-5DED-4A37-B51A-0C692855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F82CD-A6FF-42D3-8BB8-5D82B209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39C2-13B4-46CA-86C0-B03D7C51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72EED-2E75-43DA-9EC2-E914B0EF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F05BE-1F2C-4BD9-BA96-BC002853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C57CB-7ECF-4800-8240-4800CC7F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C44C8-F7F4-489E-B9DF-C9CCD588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890E7-D9F8-4F57-8CEF-6607966D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61796-1B7E-4D7B-878D-6A15C0F9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D7602-1A4D-495C-BC56-DB0CED28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6F197-DD88-4A8A-9BEF-8A00EF25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06723-9588-4B83-AE85-860AFD5B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37916-06A5-43AA-9BF7-0EAEB265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B040-D82D-4147-8A1A-EF37DA44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3E8A1-BB7B-4781-BF74-16D29BDB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9D452-B05C-4C97-8BCB-24DEE3B0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CC5864-9119-4D13-9E04-B5BACC08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9D145-7E0E-44CE-AC9C-09392F7F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9EFB2-24E7-4270-9DF0-9CABCB63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449B9-3499-4786-97BA-742994AF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75D92-8C5C-492E-816F-D26E1572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75913-BA9D-48BC-8347-CA042F32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7C632-F14C-4338-87CA-CAA3CEBC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573B3-AC64-417C-830C-14E03727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FEE6-E0B4-46E3-A749-C8D9FE86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58523-C8AD-4707-A565-FCBB51AF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28F964-83E9-47D3-8E5F-3806DEC5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AA0080-008D-4C78-AAAB-C2A75418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A0854-7AE8-4AB4-85FA-3451590D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7CE22-62E0-443E-8E52-6EBF8D09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A5548-2EA7-4537-BE36-623646F9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F7DF9-99BF-4A34-B2C7-E2B0DF98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0A0C4-CEC6-4E51-9BC7-69282DA9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25573-940E-402D-8832-1E38EE88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7D41F9-467F-43A2-BFD9-000ABC86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D677-3DB1-42B8-B935-AB480313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5A8C0-DC27-4288-904E-2E54F23B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05981-459C-4808-98DF-0F1F6CF4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4E923-CF79-4325-8E75-2DEDC032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510D5F-A2F5-405E-B396-BB95F21E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62CF3-F585-4ADB-A791-75FC44F7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BCAB0-D6CF-4A56-B240-BA2C4EDD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736AD-54DB-4871-B9ED-460AF01F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8FBF4-FE84-4C9A-9E16-DFA95252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88593F-04CF-4BE4-8232-88E89104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EEBA3-655D-4C08-8580-153A901B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9D51-E0BD-4BCC-8088-F242C353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901CA8-6C62-4551-8C9B-38B1295E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72E36-D2F2-4F4C-88C3-9C6437DA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9F34CB-F7FC-47F3-9A5E-29FA7615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3AAA5-20A2-49ED-B22B-0B2DC2D3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2C0B57-9395-4195-9DA3-68954988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F2893-871D-4FA8-A410-21DB9007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C7F6C1-A667-4EE1-A257-D81450B0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C167E-55CE-49BD-A367-8E4E61C5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0B542-1143-4C4E-A1C1-5EA4C143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DFB72-9A04-40CD-BC8E-FBC3AC5F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091-632A-4A1C-8B6D-CCA5AE6D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5A03-505B-4C0C-8508-048BDCBE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52B9A3-89E6-4B61-807A-6CEAF5F2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D8424-D1B9-4B57-B54C-D943EA21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90A8E-C947-4A84-A97D-D341692E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B5B1E-9C71-4FE3-8D66-647293D0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C7490-36DC-4F9E-833D-FFD11762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77C5-49B6-4ADF-A9B0-C7D9673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0766-F504-4162-8DF7-FE0CEC3B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F8D1-BE36-4FF8-B5B0-22FF45C2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67DE-962A-439F-8595-908CDB2E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AE0C-BBB3-44D2-B067-DA26DFF6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184AF-798E-4853-923B-DB50928D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9BBA-434B-4D6E-9CEB-66F28BDC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CC1A-9FD7-46AF-A6FA-81EA0581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BB05-430B-47A7-939E-29919286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0AD-D164-4555-BFC2-40F7968F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0937-F696-4C5E-8767-6D4CE222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EB9E-FEB9-4B2C-8193-1AB478B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A61A-97C6-469D-B820-04EAC6AC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28582-89D7-4812-B185-190CA26B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B816-83F5-47BC-AAC7-C5F3A360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B30B-9784-4CF9-8AA0-54E83149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E836A-5D8B-43F7-BC0A-89190662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5FAC9-4600-4898-9B41-82F34795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84A42-C9C4-475D-86F4-43D32849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45E67-0CA1-4F8F-9C03-EBA1B125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FA0-893E-4991-8B53-C18F193A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29781-D3B2-440F-A992-9FFE5928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9F6E-30B7-4A29-9880-10408A45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C160-5A73-4D37-834C-448AFA1C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E2F62-978B-4D34-A0E4-475053B9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64EF-6821-4E0F-B4B8-0C601AAE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D895E-47C2-4FA3-A6F0-B5988DF6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5BFD5-C069-463C-833E-213AB8C7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02074-9320-4C33-8D6A-B781ACF2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39C16-0D9A-498F-9486-6502AF27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D9981-A95F-43E4-AAC8-27798D3E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A0E-F3BB-4CBB-83C5-771A2C13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F732-6C11-4D76-BA30-303A9CB6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C7FE8-CA37-4BCC-AB73-A026A54F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6DBE9-C3A6-43A3-B0F0-3FD562A8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036DE-B2DD-4498-A9A2-74A49B8C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1DF27-F29B-447E-B38B-A45AAD1C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27265-CFB2-4ACE-814C-549BEF8E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6AA14-4F30-4BA7-B6AD-FB720724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91CF2-E68F-4415-BDAB-52D1375A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CB7D4-5616-46A1-ADFC-3AB14AFE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4E661-947B-4EB7-A6E7-A1931F1D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318-ADDA-477D-A028-873225A8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D72F6-9E53-4870-91AA-BD675119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8EBC6-3476-406F-8A00-10E5BB1B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A05EB-0A4E-4C08-B250-3E5C69D6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12A6D-E746-41F1-BFA1-E8E90A92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953DC-7D7F-4BB8-8333-0FF834A8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B058E-BE82-43E0-BCD7-62412AA6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39737-9648-470E-B30A-9EF2942B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AB096-F93D-4B35-9709-DC8CD65F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49E0E-5B3A-46D0-A088-73FEF39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C1C8F-3473-456B-9745-BEE11B57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94F-15AF-4D9F-AA73-5A98CF0E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B2F03-80C8-44CA-95AC-818296A0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7035F-109F-40CE-A347-8F99452F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1F519-25B9-4CBA-B72A-923BB364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7AF3F-06A8-4FA0-B40F-C5BF4C6D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1FB8D-B3EC-43EB-9064-7869D225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0F822-BEA1-45EE-B735-979ACA9A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BC593-BEEB-4B52-9665-40C10C63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CBC19-9BDB-43E5-8C71-EAED4F76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A5345-9D04-4E00-9A40-2B8F9682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D9AFE-0E99-4AFC-96D6-721D6C6F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01E-CD8E-4455-8F68-F1402922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D41D6-48A3-4DFA-A1DA-CCD3C5F3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F5E50-0EFB-4B00-949D-4594895E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63E4D-FDC0-4D70-A537-CD3329B5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8F36-10C8-4B47-990D-9CC09D37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06586-1C80-4F64-8710-8BBEF5ED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74833-4AD9-41EB-A358-8BD12DF2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401C4-8DAB-4352-B039-11F3A9CB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93E73-EE58-4AA2-89C1-A0818615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99F86-99E1-4F3F-9A5E-4CD3F043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BEAC2-B0B9-46A2-83CC-7FB37757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854-9019-4E4F-B30D-CDA1846A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E1502-4DE2-478C-AA5F-F9B87B81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A77EC-D5F8-4C65-B244-B4D305FC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C5C99-67A5-41CB-A198-34A1316E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0848B-1FF2-477B-AB53-404D8E3E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E272D-92C0-4F72-99DB-11EF014C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63129-F132-44F6-970A-ED4793C9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4FE6D-314A-4A8D-A134-7A47CF70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E11C2-302B-4CDC-968B-B03C6C23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16FD4-4ABA-4736-AC09-9E6F21C6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018CC-EED2-4B41-9C51-BB594041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136E1-6985-4130-87FD-747A06971FA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DDE20-BF73-4ACB-A1AF-5B087A38609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47A68-E809-4800-9E76-77079F36D65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5EDD8-6196-4ECA-B3F6-560249FF7F3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35C8B-177D-4185-9018-6BAA8D16719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8CCE3-F9F6-49FF-89B6-8CB965379C5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B0642-3DFC-4101-98E5-C927E2DECB9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D1F16-CA88-4012-AC41-92327CF4A8B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D51DD-9916-486F-AA31-F51E537F681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6B5FA-26E1-4B4A-A44D-E123833F22E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245D2-0DA1-4ED3-B39A-07A8132D223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CB0E9-5F03-46C9-A8AB-2B304C92BAA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DB7D6-51BE-44D4-80E5-5EFB5D7B61F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7D5C3-3175-4316-AD1F-EE7A913CA5C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75803-960D-483F-80F3-CA2F234443D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4CC71-BE59-4C91-AABC-CD4538BDA1E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569CE-36B1-43FF-A926-BFC874965F4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hyperlink" Target="http://depts.washington.edu/marbio/links/prospective.html" TargetMode="External"/><Relationship Id="rId3" Type="http://schemas.openxmlformats.org/officeDocument/2006/relationships/hyperlink" Target="http://www.marinecareers.net/marine-biology" TargetMode="External"/><Relationship Id="rId4" Type="http://schemas.openxmlformats.org/officeDocument/2006/relationships/hyperlink" Target="http://www.marinecareers.net/marine-biology" TargetMode="External"/><Relationship Id="rId5" Type="http://schemas.openxmlformats.org/officeDocument/2006/relationships/hyperlink" Target="http://www.indeed.com/salary/q-Marine-Biologist-l-Washington.html" TargetMode="External"/><Relationship Id="rId6" Type="http://schemas.openxmlformats.org/officeDocument/2006/relationships/hyperlink" Target="http://www.indeed.com/salary/q-Marine-Biologist-l-Washington.html" TargetMode="External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youtube.com/watch?v=g_aguo7V0Q4&amp;list=PLEXqjIYY5zi6hWCvm5idXYLH2Qtv7fT-f&amp;index=2" TargetMode="External"/><Relationship Id="rId3" Type="http://schemas.openxmlformats.org/officeDocument/2006/relationships/hyperlink" Target="https://www.youtube.com/watch?v=g_aguo7V0Q4&amp;list=PLEXqjIYY5zi6hWCvm5idXYLH2Qtv7fT-f&amp;index=2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otprintnetwork.org/en/index.php/GFN/page/calculators/" TargetMode="External"/><Relationship Id="rId2" Type="http://schemas.openxmlformats.org/officeDocument/2006/relationships/hyperlink" Target="http://www.footprintnetwork.org/en/index.php/GFN/page/calculators/" TargetMode="External"/><Relationship Id="rId3" Type="http://schemas.openxmlformats.org/officeDocument/2006/relationships/hyperlink" Target="http://www.footprintnetwork.org/en/index.php/GFN/page/calculators/" TargetMode="External"/><Relationship Id="rId4" Type="http://schemas.openxmlformats.org/officeDocument/2006/relationships/hyperlink" Target="http://www.footprintnetwork.org/en/index.php/GFN/page/personal_footprint/" TargetMode="External"/><Relationship Id="rId5" Type="http://schemas.openxmlformats.org/officeDocument/2006/relationships/hyperlink" Target="http://www.footprintnetwork.org/en/index.php/GFN/page/personal_footprint/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5" descr=""/>
          <p:cNvPicPr/>
          <p:nvPr/>
        </p:nvPicPr>
        <p:blipFill>
          <a:blip r:embed="rId1"/>
          <a:stretch/>
        </p:blipFill>
        <p:spPr>
          <a:xfrm>
            <a:off x="-546120" y="0"/>
            <a:ext cx="10242720" cy="685800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2920" y="2514600"/>
            <a:ext cx="659916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entury Gothic"/>
              </a:rPr>
              <a:t>Energy Use in Everyday Life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1942920" y="4776480"/>
            <a:ext cx="659916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ABS/STEM Uni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401480" y="582480"/>
            <a:ext cx="72262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401480" y="1371240"/>
            <a:ext cx="7226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was difficul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assumptions did we have to mak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Do you think these values include the entire life cycle analysi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uses the differences between the by hand and online tool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do you and your classmates compare to the rest of the US? Europe?  The world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n students chang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4" name="Picture 5" descr="http://www.footprintnetwork.org/images/trends/2015/united_states_of_america.png"/>
          <p:cNvPicPr/>
          <p:nvPr/>
        </p:nvPicPr>
        <p:blipFill>
          <a:blip r:embed="rId1"/>
          <a:stretch/>
        </p:blipFill>
        <p:spPr>
          <a:xfrm>
            <a:off x="1596960" y="2608200"/>
            <a:ext cx="6318360" cy="3184560"/>
          </a:xfrm>
          <a:prstGeom prst="rect">
            <a:avLst/>
          </a:prstGeom>
          <a:ln w="0">
            <a:noFill/>
          </a:ln>
        </p:spPr>
      </p:pic>
      <p:sp>
        <p:nvSpPr>
          <p:cNvPr id="1215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Picture 2" descr="http://www.footprintnetwork.org/images/trends/2015/china.png"/>
          <p:cNvPicPr/>
          <p:nvPr/>
        </p:nvPicPr>
        <p:blipFill>
          <a:blip r:embed="rId1"/>
          <a:stretch/>
        </p:blipFill>
        <p:spPr>
          <a:xfrm>
            <a:off x="1533600" y="2085840"/>
            <a:ext cx="70009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Content Placeholder 6" descr="http://www.footprintnetwork.org/images/trends/2015/india.png"/>
          <p:cNvPicPr/>
          <p:nvPr/>
        </p:nvPicPr>
        <p:blipFill>
          <a:blip r:embed="rId1"/>
          <a:stretch/>
        </p:blipFill>
        <p:spPr>
          <a:xfrm>
            <a:off x="1282680" y="2065320"/>
            <a:ext cx="69343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2" descr="http://www.footprintnetwork.org/images/trends/2015/brazil.png"/>
          <p:cNvPicPr/>
          <p:nvPr/>
        </p:nvPicPr>
        <p:blipFill>
          <a:blip r:embed="rId2"/>
          <a:stretch/>
        </p:blipFill>
        <p:spPr>
          <a:xfrm>
            <a:off x="1692360" y="2109960"/>
            <a:ext cx="70549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ducing our footprin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2920" y="1460160"/>
            <a:ext cx="65912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As teenagers, which contributors to the carbon footprint can you control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Which contributors can you not control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617840" y="178920"/>
            <a:ext cx="65880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Can we change our carbon footprint by rethinking how we ea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88960" y="1956960"/>
            <a:ext cx="7477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26% of edible food is wasted and disposed of by Americ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10% of total U.S. greenhouse gas emissions in 2012 were from agricultural activities; livestock are major contributor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31 million school lunches served per day; 11 million school breakfast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ne student could potentially eat 4000 school meals from grades K-12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5" name=""/>
          <p:cNvGraphicFramePr/>
          <p:nvPr/>
        </p:nvGraphicFramePr>
        <p:xfrm>
          <a:off x="457200" y="746280"/>
          <a:ext cx="8112240" cy="5636880"/>
        </p:xfrm>
        <a:graphic>
          <a:graphicData uri="http://schemas.openxmlformats.org/drawingml/2006/table">
            <a:tbl>
              <a:tblPr/>
              <a:tblGrid>
                <a:gridCol w="4056120"/>
                <a:gridCol w="405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es Traveled to Consu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esh Produce (from CA and F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reakfast Ce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sed fruits and 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2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k and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-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14520" y="623520"/>
            <a:ext cx="7020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arm Up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185840" y="1386000"/>
            <a:ext cx="77184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st at least 10 activities you do on a daily basis that require energ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f all the things in your list above, which do you think uses the most energy overall?  Explai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ere do we get the energy we need to accomplish these tasks?  Describe in as much detail as you ca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"/>
          <p:cNvSpPr/>
          <p:nvPr/>
        </p:nvSpPr>
        <p:spPr>
          <a:xfrm>
            <a:off x="1571760" y="1600200"/>
            <a:ext cx="7115040" cy="1222200"/>
          </a:xfrm>
          <a:prstGeom prst="rect">
            <a:avLst/>
          </a:prstGeom>
          <a:noFill/>
          <a:ln cap="rnd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Question for Projec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792080" y="176976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How can you make our school’s lunches more sustainable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will work in groups of 3 to address this challenge and propose your solution using an infographi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Agricultural Enginee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pply knowledge of engineering technology and biological science to agricultural problems concerned with power and machinery, electrification, structures, soil and water conservation, and processing of agricultural produ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n agricultural engineer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helors Degree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404040"/>
                </a:solidFill>
                <a:latin typeface="Century Gothic"/>
              </a:rPr>
              <a:t>What is a typical salary for an agricultural engineer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 $35.79  hourly, $74,45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Dietician/Nutritionis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food service or nutritional programs to assist in the promotion of health and control of disease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ay supervise activities of a department providing quantity food services, counsel individuals, or conduct nutritional research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 dietician or nutritionist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ost dietitians and nutritionists have a bachelor’s degree and have participated in supervised training through an internship or as part of their coursework. Many states require dietitians and nutritionists to be licensed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is a typical salary for a Marine Biologist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$26.88 hourly, $55,92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572840" y="804960"/>
            <a:ext cx="72010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b9bd5"/>
                </a:solidFill>
                <a:latin typeface="Century Gothic"/>
              </a:rPr>
              <a:t>Next Generation Science Standard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1573200" y="1329840"/>
            <a:ext cx="756936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Next Generation Science Standards Grades 9-12 (Ages 14-1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tudents who demonstrate understanding ca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P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an investigation to provide evidence that the transfer of thermal energy when two components of different temperature are combined within a closed system results in a more uniform energy distribution among the components in the system (second law of thermodynamics)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2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competing design solutions for developing, managing, and utilizing energy and mineral resources based on cost-benefit ratios.*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or refine a technological solution that reduces impacts of human activities on natural system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TS1-3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a solution to a complex real-world problem based on prioritized criteria and trade-offs that account for a range of constraints, including cost, safety, reliability, and aesthetics as well as possible social, cultural, and environmental impa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sourc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297000" y="1600200"/>
            <a:ext cx="8564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ttp://www.ecoliteracy.org/sites/default/files/uploads/rethinking_school_lunch_guid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www.cias.wisc.edu/wp-content/uploads/2008/07/energyus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css.snre.umich.edu/css_doc/CSS01-06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657080" y="623520"/>
            <a:ext cx="6877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ssential Questi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657080" y="1571760"/>
            <a:ext cx="68770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effect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y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or habits can we change to reduce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can you make our school’s lunches more sustainabl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57000" y="623520"/>
            <a:ext cx="6977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Learning Objectiv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371240" y="1671120"/>
            <a:ext cx="716292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Students will be able t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xplain factors that determin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Identify factors that can be changed to reduc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Analyze the process and materials used in the cafeteria to reduce its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69600" y="579600"/>
            <a:ext cx="737388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724040" y="1347840"/>
            <a:ext cx="68104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The ecological footprint measures how fast we consume resources and generate waste compared to how fast nature can absorb waste and generate new resourc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Picture 4" descr="basics-overview-510"/>
          <p:cNvPicPr/>
          <p:nvPr/>
        </p:nvPicPr>
        <p:blipFill>
          <a:blip r:embed="rId1"/>
          <a:stretch/>
        </p:blipFill>
        <p:spPr>
          <a:xfrm>
            <a:off x="2989440" y="3103560"/>
            <a:ext cx="45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76360" y="6634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Ecological Footprint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1"/>
          <a:srcRect l="5289" t="56153" r="51467" b="8574"/>
          <a:stretch/>
        </p:blipFill>
        <p:spPr>
          <a:xfrm>
            <a:off x="2004840" y="2554200"/>
            <a:ext cx="5861160" cy="369432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5"/>
          <p:cNvSpPr/>
          <p:nvPr/>
        </p:nvSpPr>
        <p:spPr>
          <a:xfrm>
            <a:off x="1918800" y="6248520"/>
            <a:ext cx="62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rom Living Planet Report 2008, World Wildlife Fund,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1347840" y="1336680"/>
            <a:ext cx="752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cological footprints measure the extent to which humans are using the Earth</a:t>
            </a:r>
            <a:r>
              <a:rPr b="0" lang="ja-JP" sz="24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 bioproductive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342800" y="623520"/>
            <a:ext cx="7543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0" name="Content Placeholder 3" descr=""/>
          <p:cNvPicPr/>
          <p:nvPr/>
        </p:nvPicPr>
        <p:blipFill>
          <a:blip r:embed="rId1"/>
          <a:stretch/>
        </p:blipFill>
        <p:spPr>
          <a:xfrm>
            <a:off x="781200" y="1620720"/>
            <a:ext cx="8105760" cy="3922920"/>
          </a:xfrm>
          <a:prstGeom prst="rect">
            <a:avLst/>
          </a:prstGeom>
          <a:ln w="0">
            <a:noFill/>
          </a:ln>
        </p:spPr>
      </p:pic>
      <p:sp>
        <p:nvSpPr>
          <p:cNvPr id="1201" name="Rectangle 4"/>
          <p:cNvSpPr/>
          <p:nvPr/>
        </p:nvSpPr>
        <p:spPr>
          <a:xfrm>
            <a:off x="781200" y="5627520"/>
            <a:ext cx="81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2"/>
              </a:rPr>
              <a:t>Sustainability Illust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3"/>
              </a:rPr>
              <a:t>Ecological Footprint:  Do We Fit our Plant?  https://www.youtube.com/watch?v=g_aguo7V0Q4&amp;list=PLEXqjIYY5zi6hWCvm5idXYLH2Qtv7fT-f&amp;index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471680" y="542880"/>
            <a:ext cx="721512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What’s Your Ecological Footprin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914040" y="1300320"/>
            <a:ext cx="76582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e your personal carbon footprint at the following website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1"/>
              </a:rPr>
              <a:t>http://www.footprintnetwork.org/en/index.php/GFN/page/how_big_is_your_ecological_footprint_video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2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3"/>
              </a:rPr>
              <a:t>http://www.footprintnetwork.org/en/index.php/GFN/page/calculators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4"/>
              </a:rPr>
              <a:t>http://www.footprintnetwork.org/en/index.php/GFN/page/personal_footprint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5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Picture 2" descr="ftpt"/>
          <p:cNvPicPr/>
          <p:nvPr/>
        </p:nvPicPr>
        <p:blipFill>
          <a:blip r:embed="rId6"/>
          <a:stretch/>
        </p:blipFill>
        <p:spPr>
          <a:xfrm>
            <a:off x="1122480" y="2944800"/>
            <a:ext cx="65847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4296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ass Dat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856800" y="1557000"/>
            <a:ext cx="81550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dd a tally mark under the category that represents your footpri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(units are ‘Planet Earths’, or the number needed if everyone on Earth lived like you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741240" y="2906640"/>
          <a:ext cx="8402760" cy="3462480"/>
        </p:xfrm>
        <a:graphic>
          <a:graphicData uri="http://schemas.openxmlformats.org/drawingml/2006/table">
            <a:tbl>
              <a:tblPr/>
              <a:tblGrid>
                <a:gridCol w="1051200"/>
                <a:gridCol w="1049040"/>
                <a:gridCol w="1051200"/>
                <a:gridCol w="1050840"/>
                <a:gridCol w="1049400"/>
                <a:gridCol w="1050840"/>
                <a:gridCol w="1049400"/>
                <a:gridCol w="1050840"/>
              </a:tblGrid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 or 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51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8:36:45Z</dcterms:created>
  <dc:creator>Shoreline</dc:creator>
  <dc:description/>
  <dc:language>en-US</dc:language>
  <cp:lastModifiedBy>Madonna Brinkmann</cp:lastModifiedBy>
  <dcterms:modified xsi:type="dcterms:W3CDTF">2015-05-31T21:01:37Z</dcterms:modified>
  <cp:revision>31</cp:revision>
  <dc:subject/>
  <dc:title>Warm Up</dc:title>
</cp:coreProperties>
</file>