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02F649-4BD8-4630-9C54-55056C775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6F526D-2856-4703-9596-71B9C968C5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285F-6A13-45A8-AFBD-64833C170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14CF-E61D-434D-A575-CFB6A6872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A65118-A9CD-493E-B646-C84FB1492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2BED6C-20F6-4A91-8194-ED9DD5E88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AD084B-F473-4E8F-B2A1-E728E05B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B7BA75-6AF1-4E83-AC6F-6E17B6D4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3AFFD6-74CF-4B68-BA71-B938B7CA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C4811C-DF83-463C-9812-9163E9E0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002FCB-D054-42F0-856C-09EB221EF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C9BC73-F1CA-4DE7-96DA-3463578D2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4D1EC4-84E7-4B9F-AC83-6C86A55A0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DE7C6D-A1DB-44AC-B9BA-AF1B3ECF5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C768-0587-4CEB-8248-CA18AC08A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78ED99-487B-403A-BBEB-A0ECB4CAD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9E75AF-D231-4CB8-9FE3-8D7D1C656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AD2275-BADC-4F81-9E9C-6F0540D94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C2770B-EF7C-4BE4-A189-AE712C58A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12CFB6-B8CA-4360-B5C0-3EC690C67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F70A38-D0CE-4AE1-92FE-16DE5D2C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68F329-057F-4B30-B2D2-1979ED6E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0B1F1E-8CCE-4F41-816E-D0B73196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D576FB-DF7E-4420-9E08-603C34A6B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02006A-7673-4517-8D7A-26919C8C7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BBAD-572E-44CE-8B38-55CFE33DC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33FA66-B185-433A-B08A-7751BD35A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1B307A-40D6-4485-AA3D-F36138DF9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8F7131-B146-484F-B80E-D030C3926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C93ED3-B66E-4FC7-826E-48050A6E7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354183-5DC4-4EB8-999C-696DDCFDC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90AAB3-F850-4CCB-86D2-9426415DA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39AB20-DDFF-4100-B413-AC278B1A0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DD5B95-FF87-4487-A464-CA08CD31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D8EF8E-F2A0-457E-AAF8-764D0EBE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246FFE-03BD-4621-AF81-A2AF4A98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1CB72-C88D-4A66-9618-A24C6750F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508FDB-221B-4545-9495-5BD0FF4C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A23ADD-D8D0-4542-AB00-B71676BCC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373A27-E196-4016-B3DC-611AD378E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56EA92-A588-4BC0-B215-18AA28AE9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526AC0-996B-42DB-8E3B-A05BF4DDF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9290C9-21B9-489E-B2A6-03413B243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E76960-4C17-4E8B-9046-1E770F2BD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E87D87-D684-4A19-BC25-5672FDF10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B79CC0-C7AD-49F6-9C06-03CD1D4A0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7BCE96-6C0A-4AE5-AD9D-E2CFEBD6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5F36C-4C64-43E5-ADA8-17F7A1C53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8D3981-EDA6-444B-A586-F12B39DD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FCCEE1-2384-479B-901A-84F2C58D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B25678-06B2-4C9B-B946-30470901A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B08FB7-23C6-456C-8B6C-B3859EE27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FEC724-8450-4CBC-B5B5-0BBBA82BA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51CEB2-4BFB-4170-ACEC-D1B909897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BBB6C0-C5B2-4DA9-8718-42DBE2D20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99EC4F-90CF-43D3-832B-CD24038A0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1BED38-5DEB-4D7C-B088-EB4899079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FB3B89-82E1-4384-9EBB-ED3C722F2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5DC74-2710-48D1-A562-B28822994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157944-719F-4AB8-8C4E-E1A74BC17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E2BDBF-4F2B-4BA5-A1C4-7D31CB91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07136C-B815-419D-84C7-2D2A1491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7C936A-B395-4D97-BDF6-759152CF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95C700-FF9A-43FD-BCF9-3C740C1E2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A27133-C1C0-4A3C-94D7-517D9FEFF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AE6451-D8D0-47FE-AE60-1542BD7FE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BCB218-0C4A-495C-ADCB-BA91EB0C4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5A6E8A-F980-49E8-9ECC-BBC9B6B24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E487CC-5197-41CB-8D5A-1803FEA59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A91E5-30D1-46A3-B19C-E9B500475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59622C-CB59-44B9-A8D3-1E30CAC13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3F7399-8BB9-4DDC-BF4E-018894CB7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7A4687-8008-4617-8B7B-F239F2D16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2355EB-6873-468D-BFA3-DAAF8AE6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916490-2FA5-4A5B-B7A2-07352077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7B0F5D-1395-4565-AFAA-68C41F46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160C48-6840-48BD-8A67-8A65F0BC6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53089F-0290-40FE-AB18-CC10E369B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A3A8D3-BD67-420B-9A54-475E798CA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5A8C76-761B-47AD-AE41-A3AD9B529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FE898-9013-4E8E-AF01-1D5E77263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F7FBD9-247C-49F0-B2F9-36E98AB9D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26B3B8-2B1D-48B9-889A-E1AE23C2B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1C0F9E-F936-412B-A7D3-3398D3DBA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FB1BA2-581D-4463-9100-4AFC5FB5E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DA28C8-1F7E-4497-AE0F-7656D5A21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3E20C5-D578-48F9-B554-EAFE2B7F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23FA8B-4068-4814-9F99-139A2EED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31E1D0-C0C6-4493-8CEA-487BF642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11CAAC-291D-4707-8589-C81A3F2EA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50428F-5E4F-4480-9F52-CA7DC1BB2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208E0-3653-4516-9889-6FB406C48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803A2F-C968-42DF-B34F-B4409B5F9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117394-D064-480E-BDB6-05ECAC3A0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AD4BB6-42B6-4057-912A-CEAE8FE31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C98098-FE20-4279-908A-F7D50FF0A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80D636-7392-44F2-BAE9-F4806B7E9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CB06F0-16A6-43F9-97AE-B81F246CC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914CEB-F5DC-4681-A550-4ABA43EB2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CA9734-75DA-4A55-A814-98ED3FDF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B6E918-E6D6-4F8D-B3C0-6F74C4A6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097365-45D3-4C2D-A80F-A1142643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68CF5-3250-4491-9E20-DD9F2D77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BDB189-14E7-46EB-AFD8-1C6822AF4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4D0ADB-0637-4F1B-AB35-BBC0F364F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C515AE-31AD-4416-AB15-86B720895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7DB8E5-89D2-4803-9F78-DAB979EDA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1E1EC1-5513-4865-AEC2-2571DEF1C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927859-B936-4D1F-8B57-0258BBBEF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088461-1D67-4AF7-B249-70D0EE71C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4DA96C-63D5-4E49-BF8F-5FD0FA87A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2D6A9C-B1B8-4A3F-8713-CBA12524A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59D567-E8F0-4E18-835A-2D479EEB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0014-4939-4DB9-837E-50E1142E9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6FE32-7B7D-43CC-8572-8AFD81AA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E661D9-3B27-4971-B8BD-DB2D1D32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871CD3-98D2-4AED-B917-6A99323C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E12D94-56D2-4E7B-B603-B6518BCF4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6162BE-9508-4E60-8D95-162909727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C0693B-6C8A-42FD-98B7-0687CEF74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4BA72-866B-4A9D-8FCA-296F8A1E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9B23E-A2F8-43CC-87A0-01C1A1752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57440-D8EF-43A1-807B-43FE9952E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30047-10C2-48AF-B88E-89477BBC5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62A85-217B-4E80-B890-3532EDD23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EFAF0-2E4D-4104-993E-0F6F671D5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4DB3D-5748-428E-817C-7C8CBB874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40F00-25E0-405D-A3CB-39CE016B6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3EDB7-1E42-4662-BF26-3FC4F3DB4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9124-32C3-450E-A244-5D14B270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ED25B-3AA3-46DB-98C7-7AE71535C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3F946-AD09-499C-9D4F-6E561EF5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04BCF-A68C-4CA3-8F2C-97FD361E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35F4A-9E65-4D7E-AD64-ABD23208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31EE1-B3F5-4B96-937E-67639CBA5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512E8-3EA9-4042-9213-6A29789CC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F1D1F-1AA8-44CD-A744-81E732542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25F19-6F48-478B-AF45-0C07A13EC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6A182-0745-44A1-BA44-F74210BEE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F9393-E2EE-4EAF-B790-49F0F4642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D2D8-356B-40FA-9F34-6EF2628BF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34AA4-3053-4B26-A3F3-3801ED5A0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D629A-DDE0-4792-A1A6-B20A68C6B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72C35-7CD6-4437-A392-60C2DC7F1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F82D7-79A7-41BF-BABF-49F512BA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CC650-DABF-4BF8-8B92-D3ACAE6A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411B0-A9F2-4BB6-A2A5-91FC2055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F36E9-0C32-48F9-A3BD-76F70BF54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6A8CF-8924-403D-9AE7-C7C6A8F8F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D3F25-CA17-4A94-B57B-5CF283BF0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B67B4-2C5F-453B-9CC6-00E984F72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B995-3751-4BF0-8203-DFBBF3B89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22D21-7DDF-494C-8149-39D034CB3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DF04E-35B2-4966-AF16-14EEC8753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1B427-EFB2-4126-B7A0-1748F7681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304AB-7CE5-4118-9953-AE9558A48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BFC96-5BDE-4F27-94CF-8F19C078D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6AF3C-34F0-41C0-8317-5C1109AF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0E3F7-A93C-4C5D-8C14-7F20DF85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66D6A-378D-43F1-A0D2-89694243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1E32C-65F7-485E-A0B0-4D71280A0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EFF93-EB20-487A-BA0C-D9483979E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676C-2B88-46E2-A0CC-3D95E93A9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5A108-0527-484D-9327-AE1E2CBAD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D0B304-E795-4F43-81C9-E17C0D884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B17A1-AD32-434D-9315-E873434FC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C3DBC-92CD-4734-96D3-9EA8EFF6C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20482-A19F-4608-BE6B-59B1B8C45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D1612-5CCB-472F-B4CE-3311EA637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D147F-69EC-497B-9CE5-70BDF00E6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1B780-9351-4B40-B19A-FEBF9B09B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A25B8-72CC-44BA-ABCC-38D8D8D1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C1050-9BC2-49DF-BA25-A3B149E0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6DFB-3B93-43C0-92B2-29D88575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112A3-41BB-4A39-9A0E-16D1BF01E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C20C1-FFCC-47AB-BE61-ED2646B11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CEECD-5777-4AA6-BE2E-FC6EC1492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77F62-1CA4-4DCE-974A-FFA64C2EF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19578-B2E2-49AB-8588-4C16CA55D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6A5F8-0060-4DC2-9AAC-05D05A7DC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215F2-386D-4068-9FF6-CFE020A36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723D0-77FB-48A8-95A5-B632A5117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5173A-C3DF-4DD0-8CC7-51B620577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3DEF0-5DD4-4AB2-9565-326AA613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9DAD-180A-49D9-99F9-756A5CB2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EA36A-ADD6-4BE6-8086-5B4DC75C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60DDA-8820-4BAC-8CAB-D283CFAD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61719B-5882-4FD7-A017-7A6FC2FA3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09ABA-AAC5-4BDD-8C4D-8A093167E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7EE43-BFAC-46DD-AF5C-2537B6F03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C2CE4B-BE94-4FDD-A5D4-0E5832184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3B1A7B-CA3C-46DA-9EA9-DBFFC1427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2E9F6-105B-4E41-8A43-325BCD822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984232-964F-4088-BB3C-10FD422AB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1284AF-C013-4CFE-B47C-9BD71C02F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9C40-57E6-4C6B-81E2-51DAEE39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912D18-722D-4C37-8330-F4F06A1D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B2FFB9-1355-4A62-BD9E-465007E5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049CF6-075D-484A-B4F7-3AB255D4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577942-2F82-4813-AE2A-328DDE2F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841F8B-6744-4BA1-91CC-52A507B83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EB9DEF-5958-4759-8C59-DE35563FC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122BB1-E02C-4808-B940-8DFB6B541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E4DBF7-4C44-44E0-B09C-95808E689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AD5BD3-150F-48FD-92D3-702DC17A6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327268-E30B-4EE3-993C-7F8499E8E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02817B-AE3A-4187-B5C4-2297A8BA80AF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B6D798-BD19-45DD-B171-50E9482A4C2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DEC93E-B6FC-4130-BF77-80D2E4077BC8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5b9bd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5b9bd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370ED6-FAD3-4BEB-AFBF-129D9617D176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E973DB-FB1A-4827-83A9-69F50DD38761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5b9bd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5b9bd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A385CF-99CC-445B-BFF4-2F98382AE90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5524EF-8B1E-4BA6-8C0B-4099D823FC16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07EDF5-A6E1-4662-A8D5-1B212CC46863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8A2F41-6E59-48B7-8CC3-AE29F9EED713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reeform 33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81CF0B-3C98-489E-9776-D755B0AEA126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82CEF2-6AEE-4CBF-9AD4-15224BF406E1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0CA6EB-767D-4957-A7DF-FFA549C959CF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818397-92EE-4F16-92E0-3267640F2D01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1D6B88-ED66-453F-9EB4-C979EB1A4CDF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9E10DC-C183-4061-80B4-AC25F89F8A35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762590-0598-492C-94DE-812D8630A6C2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EC6A85-D85A-4566-84E7-E2F4F3A5D1E8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depts.washington.edu/marbio/links/prospective.html" TargetMode="External"/><Relationship Id="rId2" Type="http://schemas.openxmlformats.org/officeDocument/2006/relationships/hyperlink" Target="http://depts.washington.edu/marbio/links/prospective.html" TargetMode="External"/><Relationship Id="rId3" Type="http://schemas.openxmlformats.org/officeDocument/2006/relationships/hyperlink" Target="http://www.marinecareers.net/marine-biology" TargetMode="External"/><Relationship Id="rId4" Type="http://schemas.openxmlformats.org/officeDocument/2006/relationships/hyperlink" Target="http://www.marinecareers.net/marine-biology" TargetMode="External"/><Relationship Id="rId5" Type="http://schemas.openxmlformats.org/officeDocument/2006/relationships/hyperlink" Target="http://www.indeed.com/salary/q-Marine-Biologist-l-Washington.html" TargetMode="External"/><Relationship Id="rId6" Type="http://schemas.openxmlformats.org/officeDocument/2006/relationships/hyperlink" Target="http://www.indeed.com/salary/q-Marine-Biologist-l-Washington.html" TargetMode="External"/><Relationship Id="rId7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depts.washington.edu/marbio/links/prospective.html" TargetMode="External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s://www.youtube.com/watch?v=g_aguo7V0Q4&amp;list=PLEXqjIYY5zi6hWCvm5idXYLH2Qtv7fT-f&amp;index=2" TargetMode="External"/><Relationship Id="rId3" Type="http://schemas.openxmlformats.org/officeDocument/2006/relationships/hyperlink" Target="https://www.youtube.com/watch?v=g_aguo7V0Q4&amp;list=PLEXqjIYY5zi6hWCvm5idXYLH2Qtv7fT-f&amp;index=2" TargetMode="External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footprintnetwork.org/en/index.php/GFN/page/calculators/" TargetMode="External"/><Relationship Id="rId2" Type="http://schemas.openxmlformats.org/officeDocument/2006/relationships/hyperlink" Target="http://www.footprintnetwork.org/en/index.php/GFN/page/calculators/" TargetMode="External"/><Relationship Id="rId3" Type="http://schemas.openxmlformats.org/officeDocument/2006/relationships/hyperlink" Target="http://www.footprintnetwork.org/en/index.php/GFN/page/calculators/" TargetMode="External"/><Relationship Id="rId4" Type="http://schemas.openxmlformats.org/officeDocument/2006/relationships/hyperlink" Target="http://www.footprintnetwork.org/en/index.php/GFN/page/personal_footprint/" TargetMode="External"/><Relationship Id="rId5" Type="http://schemas.openxmlformats.org/officeDocument/2006/relationships/hyperlink" Target="http://www.footprintnetwork.org/en/index.php/GFN/page/personal_footprint/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3" name="Picture 5" descr=""/>
          <p:cNvPicPr/>
          <p:nvPr/>
        </p:nvPicPr>
        <p:blipFill>
          <a:blip r:embed="rId1"/>
          <a:stretch/>
        </p:blipFill>
        <p:spPr>
          <a:xfrm>
            <a:off x="-546120" y="0"/>
            <a:ext cx="10242720" cy="6858000"/>
          </a:xfrm>
          <a:prstGeom prst="rect">
            <a:avLst/>
          </a:prstGeom>
          <a:ln w="0">
            <a:noFill/>
          </a:ln>
        </p:spPr>
      </p:pic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1942920" y="2514600"/>
            <a:ext cx="6599160" cy="22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Century Gothic"/>
              </a:rPr>
              <a:t>Energy Use in Everyday Life</a:t>
            </a:r>
            <a:endParaRPr b="0" lang="en-US" sz="5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 type="subTitle"/>
          </p:nvPr>
        </p:nvSpPr>
        <p:spPr>
          <a:xfrm>
            <a:off x="1942920" y="4776480"/>
            <a:ext cx="6599160" cy="112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WABS/STEM Uni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1401480" y="582480"/>
            <a:ext cx="722628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Discussion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9" name=""/>
          <p:cNvSpPr txBox="1"/>
          <p:nvPr/>
        </p:nvSpPr>
        <p:spPr>
          <a:xfrm>
            <a:off x="1401480" y="1371240"/>
            <a:ext cx="72262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Calculation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at was difficult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at assumptions did we have to make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Do you think these values include the entire life cycle analysis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at causes the differences between the by hand and online tool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442880" y="622080"/>
            <a:ext cx="7297920" cy="96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Discussion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1" name=""/>
          <p:cNvSpPr txBox="1"/>
          <p:nvPr/>
        </p:nvSpPr>
        <p:spPr>
          <a:xfrm>
            <a:off x="1057320" y="1371600"/>
            <a:ext cx="7827840" cy="30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Lifestyle choice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549720" indent="-21132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How do you and your classmates compare to the rest of the US? Europe?  The world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549720" indent="-21132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at choices result in the largest carbon footprint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549720" indent="-21132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at is the role of diet: food-miles, relative impact of red meat, other meat, dairy, and all other foods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549720" indent="-21132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ich portions of the carbon footprint do  students personally control, vs. their parents, vs. broader society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549720" indent="-21132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at can students change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1692360" y="623520"/>
            <a:ext cx="684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Global Ecological Footprin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3" name="Rectangle 1"/>
          <p:cNvSpPr/>
          <p:nvPr/>
        </p:nvSpPr>
        <p:spPr>
          <a:xfrm>
            <a:off x="1889640" y="5956200"/>
            <a:ext cx="267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Global Ecological Footpri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4" name="Picture 5" descr="http://www.footprintnetwork.org/images/trends/2015/united_states_of_america.png"/>
          <p:cNvPicPr/>
          <p:nvPr/>
        </p:nvPicPr>
        <p:blipFill>
          <a:blip r:embed="rId1"/>
          <a:stretch/>
        </p:blipFill>
        <p:spPr>
          <a:xfrm>
            <a:off x="1596960" y="2608200"/>
            <a:ext cx="6318360" cy="3184560"/>
          </a:xfrm>
          <a:prstGeom prst="rect">
            <a:avLst/>
          </a:prstGeom>
          <a:ln w="0">
            <a:noFill/>
          </a:ln>
        </p:spPr>
      </p:pic>
      <p:sp>
        <p:nvSpPr>
          <p:cNvPr id="1215" name="TextBox 2"/>
          <p:cNvSpPr/>
          <p:nvPr/>
        </p:nvSpPr>
        <p:spPr>
          <a:xfrm>
            <a:off x="1692360" y="1541520"/>
            <a:ext cx="635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United St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1692360" y="623520"/>
            <a:ext cx="684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Global Ecological Footprin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7" name="Rectangle 1"/>
          <p:cNvSpPr/>
          <p:nvPr/>
        </p:nvSpPr>
        <p:spPr>
          <a:xfrm>
            <a:off x="1889640" y="5956200"/>
            <a:ext cx="267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Global Ecological Footpri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TextBox 2"/>
          <p:cNvSpPr/>
          <p:nvPr/>
        </p:nvSpPr>
        <p:spPr>
          <a:xfrm>
            <a:off x="1692360" y="1541520"/>
            <a:ext cx="635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Chi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9" name="Picture 2" descr="http://www.footprintnetwork.org/images/trends/2015/china.png"/>
          <p:cNvPicPr/>
          <p:nvPr/>
        </p:nvPicPr>
        <p:blipFill>
          <a:blip r:embed="rId1"/>
          <a:stretch/>
        </p:blipFill>
        <p:spPr>
          <a:xfrm>
            <a:off x="1533600" y="2085840"/>
            <a:ext cx="700092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1692360" y="623520"/>
            <a:ext cx="684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Global Ecological Footprin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1" name="Rectangle 1"/>
          <p:cNvSpPr/>
          <p:nvPr/>
        </p:nvSpPr>
        <p:spPr>
          <a:xfrm>
            <a:off x="1889640" y="5956200"/>
            <a:ext cx="267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Global Ecological Footpri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TextBox 2"/>
          <p:cNvSpPr/>
          <p:nvPr/>
        </p:nvSpPr>
        <p:spPr>
          <a:xfrm>
            <a:off x="1692360" y="1541520"/>
            <a:ext cx="635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Ind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3" name="Content Placeholder 6" descr="http://www.footprintnetwork.org/images/trends/2015/india.png"/>
          <p:cNvPicPr/>
          <p:nvPr/>
        </p:nvPicPr>
        <p:blipFill>
          <a:blip r:embed="rId1"/>
          <a:stretch/>
        </p:blipFill>
        <p:spPr>
          <a:xfrm>
            <a:off x="1282680" y="2065320"/>
            <a:ext cx="693432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1692360" y="623520"/>
            <a:ext cx="684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Global Ecological Footprin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5" name="Rectangle 1"/>
          <p:cNvSpPr/>
          <p:nvPr/>
        </p:nvSpPr>
        <p:spPr>
          <a:xfrm>
            <a:off x="1889640" y="5956200"/>
            <a:ext cx="267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Global Ecological Footpri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TextBox 2"/>
          <p:cNvSpPr/>
          <p:nvPr/>
        </p:nvSpPr>
        <p:spPr>
          <a:xfrm>
            <a:off x="1692360" y="1541520"/>
            <a:ext cx="635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Braz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7" name="" descr=""/>
          <p:cNvPicPr/>
          <p:nvPr/>
        </p:nvPicPr>
        <p:blipFill>
          <a:blip r:embed="rId1"/>
          <a:stretch/>
        </p:blipFill>
        <p:spPr>
          <a:xfrm>
            <a:off x="1942920" y="2133360"/>
            <a:ext cx="6591240" cy="3778200"/>
          </a:xfrm>
          <a:prstGeom prst="rect">
            <a:avLst/>
          </a:prstGeom>
          <a:ln w="0">
            <a:noFill/>
          </a:ln>
        </p:spPr>
      </p:pic>
      <p:pic>
        <p:nvPicPr>
          <p:cNvPr id="1228" name="Picture 2" descr="http://www.footprintnetwork.org/images/trends/2015/brazil.png"/>
          <p:cNvPicPr/>
          <p:nvPr/>
        </p:nvPicPr>
        <p:blipFill>
          <a:blip r:embed="rId2"/>
          <a:stretch/>
        </p:blipFill>
        <p:spPr>
          <a:xfrm>
            <a:off x="1692360" y="2109960"/>
            <a:ext cx="7054920" cy="35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442880" y="622080"/>
            <a:ext cx="7297920" cy="96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Discussion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1057320" y="1371600"/>
            <a:ext cx="7827840" cy="30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Lifestyle choice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698400" indent="-268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at choices result in the largest carbon footprint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698400" indent="-268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at is the role of diet: food-miles, relative impact of red meat, other meat, dairy, and all other foods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698400" indent="-268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ich portions of the carbon footprint do  students personally control, vs. their parents, vs. broader society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Reducing our footprint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2" name=""/>
          <p:cNvSpPr txBox="1"/>
          <p:nvPr/>
        </p:nvSpPr>
        <p:spPr>
          <a:xfrm>
            <a:off x="1942920" y="1460160"/>
            <a:ext cx="6591240" cy="44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entury Gothic"/>
              </a:rPr>
              <a:t>As teenagers, which contributors to the carbon footprint can you control?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entury Gothic"/>
              </a:rPr>
              <a:t>Which contributors can you not control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1617840" y="178920"/>
            <a:ext cx="6588000" cy="12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entury Gothic"/>
              </a:rPr>
              <a:t>Can we change our carbon footprint by rethinking how we eat?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4" name=""/>
          <p:cNvSpPr txBox="1"/>
          <p:nvPr/>
        </p:nvSpPr>
        <p:spPr>
          <a:xfrm>
            <a:off x="1488960" y="1956960"/>
            <a:ext cx="74772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26% of edible food is wasted and disposed of by American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10% of total U.S. greenhouse gas emissions in 2012 were from agricultural activities; livestock are major contributor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31 million school lunches served per day; 11 million school breakfast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One student could potentially eat 4000 school meals from grades K-12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5" name=""/>
          <p:cNvGraphicFramePr/>
          <p:nvPr/>
        </p:nvGraphicFramePr>
        <p:xfrm>
          <a:off x="457200" y="746280"/>
          <a:ext cx="8112240" cy="5636880"/>
        </p:xfrm>
        <a:graphic>
          <a:graphicData uri="http://schemas.openxmlformats.org/drawingml/2006/table">
            <a:tbl>
              <a:tblPr/>
              <a:tblGrid>
                <a:gridCol w="4056120"/>
                <a:gridCol w="405612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Food 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Miles Traveled to Consum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resh Produce (from CA and FL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928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reakfast Cere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94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e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rocessed fruits and vegetab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92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ilk and eg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-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1514520" y="623520"/>
            <a:ext cx="70200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Warm Up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1185840" y="1386000"/>
            <a:ext cx="7718400" cy="52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01"/>
              </a:spcBef>
              <a:buClr>
                <a:srgbClr val="5b9bd5"/>
              </a:buClr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List at least 10 activities you do on a daily basis that require energy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514440" indent="-514440">
              <a:spcBef>
                <a:spcPts val="1001"/>
              </a:spcBef>
              <a:buClr>
                <a:srgbClr val="5b9bd5"/>
              </a:buClr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Of all the things in your list above, which do you think uses the most energy overall?  Explain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514440" indent="-514440">
              <a:spcBef>
                <a:spcPts val="1001"/>
              </a:spcBef>
              <a:buClr>
                <a:srgbClr val="5b9bd5"/>
              </a:buClr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ere do we get the energy we need to accomplish these tasks?  Describe in as much detail as you can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514440" indent="-514440">
              <a:spcBef>
                <a:spcPts val="1001"/>
              </a:spcBef>
              <a:buClr>
                <a:srgbClr val="5b9bd5"/>
              </a:buClr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3"/>
          <p:cNvSpPr/>
          <p:nvPr/>
        </p:nvSpPr>
        <p:spPr>
          <a:xfrm>
            <a:off x="1571760" y="1600200"/>
            <a:ext cx="7115040" cy="1222200"/>
          </a:xfrm>
          <a:prstGeom prst="rect">
            <a:avLst/>
          </a:prstGeom>
          <a:noFill/>
          <a:ln cap="rnd"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Question for Projec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8" name=""/>
          <p:cNvSpPr txBox="1"/>
          <p:nvPr/>
        </p:nvSpPr>
        <p:spPr>
          <a:xfrm>
            <a:off x="1792080" y="1769760"/>
            <a:ext cx="659268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entury Gothic"/>
              </a:rPr>
              <a:t>How can you make our school’s lunches more sustainable?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You will work in groups of 3 to address this challenge and propose your solution using an infographic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1466640" y="568440"/>
            <a:ext cx="7211880" cy="99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areer:  Agricultural Engineer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0" name=""/>
          <p:cNvSpPr txBox="1"/>
          <p:nvPr/>
        </p:nvSpPr>
        <p:spPr>
          <a:xfrm>
            <a:off x="1120680" y="1285560"/>
            <a:ext cx="760896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404040"/>
                </a:solidFill>
                <a:latin typeface="Century Gothic"/>
              </a:rPr>
              <a:t>What do they do?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27920" indent="-280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Apply knowledge of engineering technology and biological science to agricultural problems concerned with power and machinery, electrification, structures, soil and water conservation, and processing of agricultural products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Gothic"/>
              </a:rPr>
              <a:t>What are some key skills necessary to become an agricultural engineer?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27920" indent="-280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Background in biology and chemistry, ability to keep records and analyze data, ability to work with a wide range of people; written and oral comprehension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entury Gothic"/>
              </a:rPr>
              <a:t>What kind of training is involved?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27920" indent="-280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Bachelors Degree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404040"/>
                </a:solidFill>
                <a:latin typeface="Century Gothic"/>
              </a:rPr>
              <a:t>What is a typical salary for an agricultural engineer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27920" indent="-280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Average Salary:  $35.79  hourly, $74,450 annually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1" name="Rectangle 4"/>
          <p:cNvSpPr/>
          <p:nvPr/>
        </p:nvSpPr>
        <p:spPr>
          <a:xfrm>
            <a:off x="1120680" y="62118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9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depts.washington.edu/marbio/links/prospective.htm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http://</a:t>
            </a:r>
            <a:r>
              <a:rPr b="0" lang="en-US" sz="900" spc="-1" strike="noStrike" u="sng">
                <a:solidFill>
                  <a:srgbClr val="0563c1"/>
                </a:solidFill>
                <a:uFillTx/>
                <a:latin typeface="Calibri"/>
                <a:hlinkClick r:id="rId4"/>
              </a:rPr>
              <a:t>www.marinecareers.net/marine-biology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 u="sng">
                <a:solidFill>
                  <a:srgbClr val="0563c1"/>
                </a:solidFill>
                <a:uFillTx/>
                <a:latin typeface="Calibri"/>
                <a:hlinkClick r:id="rId5"/>
              </a:rPr>
              <a:t>http://</a:t>
            </a:r>
            <a:r>
              <a:rPr b="0" lang="en-US" sz="900" spc="-1" strike="noStrike" u="sng">
                <a:solidFill>
                  <a:srgbClr val="0563c1"/>
                </a:solidFill>
                <a:uFillTx/>
                <a:latin typeface="Calibri"/>
                <a:hlinkClick r:id="rId6"/>
              </a:rPr>
              <a:t>www.indeed.com/salary/q-Marine-Biologist-l-Washington.htm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1466640" y="568440"/>
            <a:ext cx="7211880" cy="99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areer:  Dietician/Nutritionis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3" name=""/>
          <p:cNvSpPr txBox="1"/>
          <p:nvPr/>
        </p:nvSpPr>
        <p:spPr>
          <a:xfrm>
            <a:off x="1120680" y="1285560"/>
            <a:ext cx="760896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404040"/>
                </a:solidFill>
                <a:latin typeface="Century Gothic"/>
              </a:rPr>
              <a:t>What do they do?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Plan and conduct food service or nutritional programs to assist in the promotion of health and control of disease.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May supervise activities of a department providing quantity food services, counsel individuals, or conduct nutritional research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Gothic"/>
              </a:rPr>
              <a:t>What are some key skills necessary to become a dietician or nutritionist?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Background in biology and chemistry, ability to keep records and analyze data, ability to work with a wide range of people; written and oral comprehension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entury Gothic"/>
              </a:rPr>
              <a:t>What kind of training is involved?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Most dietitians and nutritionists have a bachelor’s degree and have participated in supervised training through an internship or as part of their coursework. Many states require dietitians and nutritionists to be licensed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404040"/>
                </a:solidFill>
                <a:latin typeface="Century Gothic"/>
              </a:rPr>
              <a:t>What is a typical salary for a Marine Biologist?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Average salary: $26.88 hourly, $55,920 annually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4" name="Rectangle 4"/>
          <p:cNvSpPr/>
          <p:nvPr/>
        </p:nvSpPr>
        <p:spPr>
          <a:xfrm>
            <a:off x="1120680" y="62118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depts.washington.edu/marbio/links/prospective.htm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http://www.marinecareers.net/marine-biology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http://www.indeed.com/salary/q-Marine-Biologist-l-Washington.htm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1572840" y="804960"/>
            <a:ext cx="720108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b9bd5"/>
                </a:solidFill>
                <a:latin typeface="Century Gothic"/>
              </a:rPr>
              <a:t>Next Generation Science Standards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6" name=""/>
          <p:cNvSpPr txBox="1"/>
          <p:nvPr/>
        </p:nvSpPr>
        <p:spPr>
          <a:xfrm>
            <a:off x="1573200" y="1329840"/>
            <a:ext cx="7569360" cy="32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Next Generation Science Standards Grades 9-12 (Ages 14-18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tudents who demonstrate understanding can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601560" indent="-2314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entury Gothic"/>
              </a:rPr>
              <a:t>HS-PS3-4.  </a:t>
            </a: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Plan and conduct an investigation to provide evidence that the transfer of thermal energy when two components of different temperature are combined within a closed system results in a more uniform energy distribution among the components in the system (second law of thermodynamics).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601560" indent="-2314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entury Gothic"/>
              </a:rPr>
              <a:t>HS-ESS3-2.  </a:t>
            </a: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Evaluate competing design solutions for developing, managing, and utilizing energy and mineral resources based on cost-benefit ratios.*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601560" indent="-2314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entury Gothic"/>
              </a:rPr>
              <a:t>HS-ESS3-4.  </a:t>
            </a: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Evaluate or refine a technological solution that reduces impacts of human activities on natural systems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601560" indent="-2314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entury Gothic"/>
              </a:rPr>
              <a:t>HS-ETS1-3.  </a:t>
            </a: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Evaluate a solution to a complex real-world problem based on prioritized criteria and trade-offs that account for a range of constraints, including cost, safety, reliability, and aesthetics as well as possible social, cultural, and environmental impacts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Resource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8" name=""/>
          <p:cNvSpPr txBox="1"/>
          <p:nvPr/>
        </p:nvSpPr>
        <p:spPr>
          <a:xfrm>
            <a:off x="297000" y="1600200"/>
            <a:ext cx="856440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http://www.ecoliteracy.org/sites/default/files/uploads/rethinking_school_lunch_guide.pdf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404040"/>
                </a:solidFill>
                <a:uFillTx/>
                <a:latin typeface="Century Gothic"/>
              </a:rPr>
              <a:t>http://www.cias.wisc.edu/wp-content/uploads/2008/07/energyuse.pdf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404040"/>
                </a:solidFill>
                <a:uFillTx/>
                <a:latin typeface="Century Gothic"/>
              </a:rPr>
              <a:t>http://css.snre.umich.edu/css_doc/CSS01-06.pdf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1657080" y="623520"/>
            <a:ext cx="687708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Essential Question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9" name=""/>
          <p:cNvSpPr txBox="1"/>
          <p:nvPr/>
        </p:nvSpPr>
        <p:spPr>
          <a:xfrm>
            <a:off x="1657080" y="1571760"/>
            <a:ext cx="687708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at factors effect our carbon footprint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at is your carbon footprint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at factors or habits can we change to reduce our carbon footprint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How can you make our school’s lunches more sustainable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1557000" y="623520"/>
            <a:ext cx="6977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Learning Objective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1" name=""/>
          <p:cNvSpPr txBox="1"/>
          <p:nvPr/>
        </p:nvSpPr>
        <p:spPr>
          <a:xfrm>
            <a:off x="1371240" y="1671120"/>
            <a:ext cx="7162920" cy="42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Students will be able to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Explain factors that determine their carbon footprint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Identify factors that can be changed to reduce their carbon footprint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Analyze the process and materials used in the cafeteria to reduce its carbon footprint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1569600" y="579600"/>
            <a:ext cx="7373880" cy="12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What is an ecological footprint?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3" name=""/>
          <p:cNvSpPr txBox="1"/>
          <p:nvPr/>
        </p:nvSpPr>
        <p:spPr>
          <a:xfrm>
            <a:off x="1724040" y="1347840"/>
            <a:ext cx="681048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The ecological footprint measures how fast we consume resources and generate waste compared to how fast nature can absorb waste and generate new resources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94" name="Picture 4" descr="basics-overview-510"/>
          <p:cNvPicPr/>
          <p:nvPr/>
        </p:nvPicPr>
        <p:blipFill>
          <a:blip r:embed="rId1"/>
          <a:stretch/>
        </p:blipFill>
        <p:spPr>
          <a:xfrm>
            <a:off x="2989440" y="3103560"/>
            <a:ext cx="45003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1476360" y="6634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entury Gothic"/>
              </a:rPr>
              <a:t>Ecological Footprint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96" name="Picture 4" descr=""/>
          <p:cNvPicPr/>
          <p:nvPr/>
        </p:nvPicPr>
        <p:blipFill>
          <a:blip r:embed="rId1"/>
          <a:srcRect l="5289" t="56153" r="51467" b="8574"/>
          <a:stretch/>
        </p:blipFill>
        <p:spPr>
          <a:xfrm>
            <a:off x="2004840" y="2554200"/>
            <a:ext cx="5861160" cy="3694320"/>
          </a:xfrm>
          <a:prstGeom prst="rect">
            <a:avLst/>
          </a:prstGeom>
          <a:ln w="0">
            <a:noFill/>
          </a:ln>
        </p:spPr>
      </p:pic>
      <p:sp>
        <p:nvSpPr>
          <p:cNvPr id="1197" name="Text Box 5"/>
          <p:cNvSpPr/>
          <p:nvPr/>
        </p:nvSpPr>
        <p:spPr>
          <a:xfrm>
            <a:off x="1918800" y="6248520"/>
            <a:ext cx="62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From Living Planet Report 2008, World Wildlife Fund, 2008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1"/>
          <p:cNvSpPr/>
          <p:nvPr/>
        </p:nvSpPr>
        <p:spPr>
          <a:xfrm>
            <a:off x="1347840" y="1336680"/>
            <a:ext cx="7526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cological footprints measure the extent to which humans are using the Earth</a:t>
            </a:r>
            <a:r>
              <a:rPr b="0" lang="ja-JP" sz="2400" spc="-1" strike="noStrike">
                <a:solidFill>
                  <a:srgbClr val="000000"/>
                </a:solidFill>
                <a:latin typeface="Century 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 bioproductive capac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1342800" y="623520"/>
            <a:ext cx="7543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What is an Ecological Footprint?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00" name="Content Placeholder 3" descr=""/>
          <p:cNvPicPr/>
          <p:nvPr/>
        </p:nvPicPr>
        <p:blipFill>
          <a:blip r:embed="rId1"/>
          <a:stretch/>
        </p:blipFill>
        <p:spPr>
          <a:xfrm>
            <a:off x="781200" y="1620720"/>
            <a:ext cx="8105760" cy="3922920"/>
          </a:xfrm>
          <a:prstGeom prst="rect">
            <a:avLst/>
          </a:prstGeom>
          <a:ln w="0">
            <a:noFill/>
          </a:ln>
        </p:spPr>
      </p:pic>
      <p:sp>
        <p:nvSpPr>
          <p:cNvPr id="1201" name="Rectangle 4"/>
          <p:cNvSpPr/>
          <p:nvPr/>
        </p:nvSpPr>
        <p:spPr>
          <a:xfrm>
            <a:off x="781200" y="5627520"/>
            <a:ext cx="8105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 u="sng">
                <a:solidFill>
                  <a:srgbClr val="0563c1"/>
                </a:solidFill>
                <a:uFillTx/>
                <a:latin typeface="Calibri"/>
                <a:ea typeface="MS PGothic"/>
                <a:hlinkClick r:id="rId2"/>
              </a:rPr>
              <a:t>Sustainability Illustr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 u="sng">
                <a:solidFill>
                  <a:srgbClr val="0563c1"/>
                </a:solidFill>
                <a:uFillTx/>
                <a:latin typeface="Calibri"/>
                <a:ea typeface="MS PGothic"/>
                <a:hlinkClick r:id="rId3"/>
              </a:rPr>
              <a:t>Ecological Footprint:  Do We Fit our Plant?  https://www.youtube.com/watch?v=g_aguo7V0Q4&amp;list=PLEXqjIYY5zi6hWCvm5idXYLH2Qtv7fT-f&amp;index=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1471680" y="542880"/>
            <a:ext cx="7215120" cy="8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entury Gothic"/>
              </a:rPr>
              <a:t>What’s Your Ecological Footprint?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3" name=""/>
          <p:cNvSpPr txBox="1"/>
          <p:nvPr/>
        </p:nvSpPr>
        <p:spPr>
          <a:xfrm>
            <a:off x="914040" y="1300320"/>
            <a:ext cx="7658280" cy="50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Calculate your personal carbon footprint at the following website: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 u="sng">
                <a:solidFill>
                  <a:srgbClr val="0563c1"/>
                </a:solidFill>
                <a:uFillTx/>
                <a:latin typeface="Century Gothic"/>
                <a:hlinkClick r:id="rId1"/>
              </a:rPr>
              <a:t>http://www.footprintnetwork.org/en/index.php/GFN/page/how_big_is_your_ecological_footprint_video</a:t>
            </a:r>
            <a:r>
              <a:rPr b="0" lang="en-US" sz="800" spc="-1" strike="noStrike" u="sng">
                <a:solidFill>
                  <a:srgbClr val="0563c1"/>
                </a:solidFill>
                <a:uFillTx/>
                <a:latin typeface="Century Gothic"/>
                <a:hlinkClick r:id="rId2"/>
              </a:rPr>
              <a:t>/</a:t>
            </a:r>
            <a:endParaRPr b="0" lang="en-US" sz="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 u="sng">
                <a:solidFill>
                  <a:srgbClr val="0563c1"/>
                </a:solidFill>
                <a:uFillTx/>
                <a:latin typeface="Century Gothic"/>
                <a:hlinkClick r:id="rId3"/>
              </a:rPr>
              <a:t>http://www.footprintnetwork.org/en/index.php/GFN/page/calculators/</a:t>
            </a:r>
            <a:endParaRPr b="0" lang="en-US" sz="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 u="sng">
                <a:solidFill>
                  <a:srgbClr val="0563c1"/>
                </a:solidFill>
                <a:uFillTx/>
                <a:latin typeface="Century Gothic"/>
                <a:hlinkClick r:id="rId4"/>
              </a:rPr>
              <a:t>http://www.footprintnetwork.org/en/index.php/GFN/page/personal_footprint</a:t>
            </a:r>
            <a:r>
              <a:rPr b="0" lang="en-US" sz="800" spc="-1" strike="noStrike" u="sng">
                <a:solidFill>
                  <a:srgbClr val="0563c1"/>
                </a:solidFill>
                <a:uFillTx/>
                <a:latin typeface="Century Gothic"/>
                <a:hlinkClick r:id="rId5"/>
              </a:rPr>
              <a:t>/</a:t>
            </a:r>
            <a:endParaRPr b="0" lang="en-US" sz="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04" name="Picture 2" descr="ftpt"/>
          <p:cNvPicPr/>
          <p:nvPr/>
        </p:nvPicPr>
        <p:blipFill>
          <a:blip r:embed="rId6"/>
          <a:stretch/>
        </p:blipFill>
        <p:spPr>
          <a:xfrm>
            <a:off x="1122480" y="2944800"/>
            <a:ext cx="658476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1542960" y="69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ass Data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6" name=""/>
          <p:cNvSpPr txBox="1"/>
          <p:nvPr/>
        </p:nvSpPr>
        <p:spPr>
          <a:xfrm>
            <a:off x="856800" y="1557000"/>
            <a:ext cx="815508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Add a tally mark under the category that represents your footprin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(units are ‘Planet Earths’, or the number needed if everyone on Earth lived like you</a:t>
            </a:r>
            <a:r>
              <a:rPr b="0" lang="en-US" sz="2800" spc="-1" strike="noStrike">
                <a:solidFill>
                  <a:srgbClr val="404040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  <p:graphicFrame>
        <p:nvGraphicFramePr>
          <p:cNvPr id="1207" name=""/>
          <p:cNvGraphicFramePr/>
          <p:nvPr/>
        </p:nvGraphicFramePr>
        <p:xfrm>
          <a:off x="741240" y="2906640"/>
          <a:ext cx="8402760" cy="3462480"/>
        </p:xfrm>
        <a:graphic>
          <a:graphicData uri="http://schemas.openxmlformats.org/drawingml/2006/table">
            <a:tbl>
              <a:tblPr/>
              <a:tblGrid>
                <a:gridCol w="1051200"/>
                <a:gridCol w="1049040"/>
                <a:gridCol w="1051200"/>
                <a:gridCol w="1050840"/>
                <a:gridCol w="1049400"/>
                <a:gridCol w="1050840"/>
                <a:gridCol w="1049400"/>
                <a:gridCol w="1050840"/>
              </a:tblGrid>
              <a:tr h="973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3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-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7-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9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1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3-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5 or m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1516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973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6T18:36:45Z</dcterms:created>
  <dc:creator>Shoreline</dc:creator>
  <dc:description/>
  <dc:language>en-US</dc:language>
  <cp:lastModifiedBy>Madonna Brinkmann</cp:lastModifiedBy>
  <dcterms:modified xsi:type="dcterms:W3CDTF">2015-05-31T21:01:37Z</dcterms:modified>
  <cp:revision>31</cp:revision>
  <dc:subject/>
  <dc:title>Warm Up</dc:title>
</cp:coreProperties>
</file>