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49E08-D7E3-46B1-97A4-CEF1E3C4A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B7E5E-22AF-46F6-BCB6-61D2D7AD7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CFE-0FE3-4D01-83C9-96EDFDA0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4C2-55E8-4452-8937-65370F27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FB1A0-B0AD-4CD1-B36D-E9E29C01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92DAC-5FE0-42EB-9D23-C342FC21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CB151-F5A1-4537-8917-39A7FEF9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568E2-A1FE-461B-830A-B9C6324A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93E67-9812-45D2-9CBF-F7783EC0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FFB79-69AF-423F-85EB-92F047AA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264E1-242C-4C3C-A4C2-22BF53B1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66EF2-43D8-4965-8738-4A837AEA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2545B-CDD3-4436-A2E1-E30B35F0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53499-6151-4F7A-9D1A-D85F45FF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E5E-671D-4820-A23E-6AA8865B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C8D4F-F15B-4447-8C53-083E52D7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1A2FE-F4AF-4213-9960-DED0DF39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01F0D-F6A5-461A-AC75-124C4212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DB829-A77F-45AC-9522-B6928CB2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A8C25-6C6D-4579-8C39-C6D2FD75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AADD8-50C5-454E-877E-53BA7EBF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9DD07-2885-47A5-86BE-91BDD897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501EF-25BC-42D2-B4BB-3C012B83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68817-E702-478E-8C98-A80F2682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EF552-67F0-4974-A365-1930956E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ED3-1900-461E-83E4-F5EEFA3C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85772-55CA-482C-9878-2F6E5FAE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80C45-7076-420D-A452-3E3DCC9B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69C24-9A8B-4C9D-8628-1F2EEDDD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C78E9-7492-4783-B115-E6F46627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CE331-5ED4-4A0E-88E7-B8CDAB1D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3A0F4-3E47-4294-8329-C4A89E4D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97932-FF35-4207-B7F1-98A69AE6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CC5A8-872C-40C4-B134-8DF081A3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021CC-6D28-4D16-A06B-E8D91F54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404AF-05DD-4D32-8BA4-BCA26B67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9C21-1B1C-404C-94B8-4830EF60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353ED-6B9B-48A0-846B-CBFC164E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A50A8-8393-44EF-AB34-AC866540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0B908-6DC2-4ABA-9613-9624DE74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EE618-3E61-404B-AEDF-C227E040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D2100-DC9B-452F-82CA-85A78B1D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58595-D10C-4CD5-8B3A-7D8E1EC8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66767-98A2-4654-A43D-AEDE2C95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09389-7D66-414A-A76A-C7498ECD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6A3EC-3516-4C06-A815-B5FC9F13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61421-F3B2-4D79-BAAD-4C0800BF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17B9-2DA1-46D4-B1D3-2674EF84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363C2-D462-4A0E-8C2C-5A163B7A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1E951-6D60-4C7D-BA51-C32034BD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4D66D-4046-48DC-B426-92C2AF0E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7766D-FD3D-4920-9286-37364BCB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ACA88-1A66-4F8A-8103-8F64360E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E8D720-D8A5-4FF3-9ED7-B886DEFE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61855-2DC5-4F8C-8555-AD1D95B9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ED6973-5D0D-4DA7-9100-2D66499D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ED23BD-F06A-4908-B463-07BFE8F4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60150-C321-44A1-8942-4F548465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3C2F-5DD9-4E64-AE64-47ACDBBF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6FE5B-11A1-449B-878F-7D63AADF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9FED8-CCCC-4C8B-887C-F15ADABA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995DB-9951-4EEF-9617-C1E6CB1F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72C4F-80A2-4469-B8F3-F8E42B23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F0DD8-2983-495E-A4F7-4180FB03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1AD76-F1CC-4516-AF86-D51D25E8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A09A3-207C-4AA5-89AC-1B760D95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D6AF4B-EE2B-4EA0-9DD5-02770691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DD338-99A1-4B83-9C9B-DBA33420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D98F9-0952-4647-AA75-AC81084D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73F4-730D-4E87-BEE0-76F8453E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81CC8-EC8C-473B-A9BE-925F7828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F514E-88DA-4057-BBCF-3924C4BD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40167-0B17-483C-991C-318C3D2F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34696-4672-443B-AD60-BA8D450C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24BF90-4E70-461B-9FCC-DB6B2548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7AD5EA-0C02-4544-8266-B22AA480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6E6A41-D818-4AC6-82EB-99335FF8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53942-7C12-488E-93AD-9739B69C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04870-8E5B-4819-9D15-7796E93F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FE8641-E122-40AD-B6E7-AE53A52C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A897-C275-4EB9-964B-5005A8A1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1B2A08-CA22-479C-80E4-5CE60364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1FA15-301A-40C7-87F0-68DEA0FE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456FD-287D-4CE8-81D1-58088D76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51C5FE-9D48-4084-9CD1-C92A4428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FB81D-4CFD-40F6-AE41-11E4897D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AD129E-3894-4FC5-91A0-E4163D6C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CE6FB4-062D-4024-825E-71FBE10D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0BE0C-7BF2-4424-A94F-7955A41F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E28345-BA47-4545-8723-4549CA17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683DA-CD46-44F5-9306-961DCF8E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333C-2E89-4240-BCF4-4326A2F5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F14988-26A6-470D-A092-F035BD13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A82217-EB03-4D95-8598-B5C96B65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55F846-E54E-49CE-86E3-B849717E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C99FB-0C3C-4C15-94B5-2E796AA4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C7F03A-3BEA-426F-9D00-C4255938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BFC79-0228-4F6C-8FC2-7D561E79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AF07C9-6BD2-4DC9-886D-4515C341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619365-39FD-488F-968E-16622387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5EFA45-BD4C-41D4-9BAF-55F9CBF6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25D48-BF6C-4805-B19D-3D915B38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28A6-B4CA-40FC-ACDB-088F5FE2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0C1D2E-5918-4EC3-B25E-A99C1D92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0F12BD-2F64-43B8-9797-1C90748A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DF5907-0764-45A6-ADD2-2B27143A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883D0B-2686-4E90-B6FD-1B4ADE16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F4D24A-C80B-4C56-8BF0-948DADAE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9AFD9C-1255-4737-8055-568EEF88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E2B646-2638-43BA-ACCA-9AE37AEC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C25A7-A444-45E8-B119-CA138CA3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938EDC-05A5-4038-9ECF-DF181CD9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931A47-04AB-4D19-80EB-4F5F721F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730-1781-48C1-A1BC-9D362F48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B89C-76CA-478B-8F28-D234D6D7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CB1D7B-97E3-4EAE-95F7-AE72F616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95129-F6EC-4BFE-B74A-3A2E79BC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140A0D-D073-4697-9482-A510F477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80EE20-B4E7-4C7F-80D2-2FF03970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9BDF8F-785E-41D1-B4CF-D7AE9EC7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1F82-608F-4D0C-B674-BD3198DE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BFEF-5D3E-4576-9CB8-B65E18F3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82A0-D937-4803-BD9F-35D5F178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61D6-7C86-451A-BB3C-23E1F711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D32AC-C300-4A5F-A825-1178E12D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650ED-8507-4BD4-BB9F-31B288C2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CE703-9FD7-4E8E-B86A-A62188E1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9F27B-26E6-4030-9A7C-6600208D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10AE-F8C3-4BF3-8C5E-E2CDE1EC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3CF-D311-4227-A300-A89CE0A3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815DB-8D14-4033-B1F0-7298F265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13A9C-24E1-4C9B-AA31-5E5FA008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F05AE-2FE5-4623-B72E-0FCD59FF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DCF31-8598-4570-8E54-23D3523C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E9D8-CCD1-4D49-9CC8-98E9F0EE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60A0-B5F7-4B7E-86BE-C73BB6D8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50B7D-7986-4E60-AEA2-F537ED6D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CA963-FD48-4C81-A871-1A052BD8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AD316-EF1F-4B72-B5F7-69E877C7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5AA5F-1E73-490F-A85E-8219D46F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42A-04E9-49B9-892E-385534DF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24B80-46BC-49DA-9E9B-A7337861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411EA-8FEA-470F-B274-F6D2ADE2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C5CE-A6CB-4327-8E41-73CF98BD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F4A84-041F-4E77-87E7-E9CF99BC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8F2D4-033C-4ED6-ACA8-B7CC17BD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B37C8-E741-458F-9D91-9E704AE6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0568-D3FD-478A-9036-FF45748D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DE0AF-7C3F-4F9C-A0BE-AD82013C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CB009-7553-4126-92CD-80906DEC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AE04B-2AE4-4DF6-823B-0527A8C1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7C6-69B3-4319-BCCE-9268AFD3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50B8D-DCB8-4896-9456-B793712B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C7361-FCB0-4197-BE59-575ACB2B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81B1C-5FC8-4D77-BF13-49867E05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BA50A-FBF5-4D68-972B-4DBA6FD8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FBFC1-12B0-4FCC-939A-B1F4FE52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50DD5-774E-451E-B68D-404D6929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0FCC0-A924-4525-B50D-8E1CC250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3983E-91CB-4FFE-B529-C6BCF3B1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58532-9795-4C8D-A5B3-9BD3AD20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5829F-476E-4F96-90B4-9B01FB56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114-A969-4FB3-B67C-F9885723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D2B3E-B5A1-450E-9B14-19380D32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ABFF4-034F-43CE-95F2-6058F8A8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BFEE9-C272-49BD-829A-C8814990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7EF68-90FE-44A8-9B3F-A6E49822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0A73E-9E73-4601-8E86-B5908B4F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3AA1D-47A4-47AF-8954-7F115F3D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4345A-AD4A-4F45-9C3E-B20A00D0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CED6C-0251-499D-90EE-DE50ED31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57DD5-FF2B-475D-8856-9492FE5A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2CB67-AF84-4397-A0C7-B0344768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F23-E730-409A-9FC5-3C27A59C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FF250-7937-4A1A-8347-D4E479BD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39CB3-B18D-4F07-9A78-BFD23D23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4FEE0-439F-4549-817C-4B8D91D7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8770B-2075-4502-87B2-AF19BD6F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D75FF-3EF9-4F58-922C-F7750ADD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418C8-B136-406E-9F37-66E0C026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95297-088B-4281-96A1-34898E35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3657B-30AC-4DC0-A0A4-FFBEF634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0B6A4-739D-455A-8A7D-CEFE8366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6580A-F4B2-42D5-9427-6DD5F840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946-D1AD-4CCC-8EDA-F9EB518C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A4353-204E-4854-8AD1-A40A7712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778F4-80B3-4612-92AA-955277D9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0EC95-EDB0-4590-A949-BC4BD8C0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D6BF0-8D4C-4A28-8408-2AA0C05A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F9483-7586-4F3D-90B7-CE1B0B27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26BAC-EFE4-4E60-838F-3DE11E33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B1E4D-EAD4-4673-980C-BB05A41D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86542-2CF9-4A25-B616-D8F2B2BA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9EA74-7F61-410E-8560-4AA3BE3D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2C85F-16A2-4584-82B0-3C88CDFE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7C4-3CDC-4058-A6F4-7DC2530D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C8E12-97E3-4467-99E7-1B3BF1B7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46CEC-EBC2-415D-8E4E-F21DA50B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6780B-57BE-4494-BC2A-7F83EB68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45A60-B315-4980-A1D1-1EA9FD16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A9D9D-1A09-490F-958F-33815344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07A11-C1E8-4BAC-A318-A57916EC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6DB23-39BC-475E-A477-16003E52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CB701-B41F-4F2E-9BBC-9286C50D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ADD4D-0A0D-46D6-8954-FADED6EF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B1AC8-7BF1-455C-ACC2-A96D3B20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4110F-37A3-4944-8B70-93804C84961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740BF-A72D-4AD8-B158-0CBCFDF6AE9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0AD5B-AD06-478C-A915-EEC0A5C2576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83A97-3E77-4347-9FEF-9C388D0C76C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9F884-B0BA-4FC7-9222-22D0129F9A7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F22B2-CB98-4C7C-ACBB-E3000F5474F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C8069-089E-4762-AF2F-527FD0A8B21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EE96C-549C-4336-8E18-E7065A5664F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B9CF0-4E30-4376-AD8E-05C5B55D64B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A2330-9845-45C4-8319-FD8D6AABABC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E7B7B-DFE6-4B88-BB6C-3ECED97CDDE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8CB50-22C5-47E6-854B-E34D90026D8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DD0EE-C003-464C-B7BF-7F1483372F2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7A3AC-4772-4DD4-A5ED-C5EFA55B6E2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BAA5C-3E30-47E5-80B7-D6BB6A29538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AA048-8131-4063-A9BB-03DA5C4F279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FEADF-09C6-4072-8399-04A262C2CB1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hyperlink" Target="http://depts.washington.edu/marbio/links/prospective.html" TargetMode="External"/><Relationship Id="rId3" Type="http://schemas.openxmlformats.org/officeDocument/2006/relationships/hyperlink" Target="http://www.marinecareers.net/marine-biology" TargetMode="External"/><Relationship Id="rId4" Type="http://schemas.openxmlformats.org/officeDocument/2006/relationships/hyperlink" Target="http://www.marinecareers.net/marine-biology" TargetMode="External"/><Relationship Id="rId5" Type="http://schemas.openxmlformats.org/officeDocument/2006/relationships/hyperlink" Target="http://www.indeed.com/salary/q-Marine-Biologist-l-Washington.html" TargetMode="External"/><Relationship Id="rId6" Type="http://schemas.openxmlformats.org/officeDocument/2006/relationships/hyperlink" Target="http://www.indeed.com/salary/q-Marine-Biologist-l-Washington.html" TargetMode="External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youtube.com/watch?v=g_aguo7V0Q4&amp;list=PLEXqjIYY5zi6hWCvm5idXYLH2Qtv7fT-f&amp;index=2" TargetMode="External"/><Relationship Id="rId3" Type="http://schemas.openxmlformats.org/officeDocument/2006/relationships/hyperlink" Target="https://www.youtube.com/watch?v=g_aguo7V0Q4&amp;list=PLEXqjIYY5zi6hWCvm5idXYLH2Qtv7fT-f&amp;index=2" TargetMode="Externa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otprintnetwork.org/en/index.php/GFN/page/calculators/" TargetMode="External"/><Relationship Id="rId2" Type="http://schemas.openxmlformats.org/officeDocument/2006/relationships/hyperlink" Target="http://www.footprintnetwork.org/en/index.php/GFN/page/calculators/" TargetMode="External"/><Relationship Id="rId3" Type="http://schemas.openxmlformats.org/officeDocument/2006/relationships/hyperlink" Target="http://www.footprintnetwork.org/en/index.php/GFN/page/calculators/" TargetMode="External"/><Relationship Id="rId4" Type="http://schemas.openxmlformats.org/officeDocument/2006/relationships/hyperlink" Target="http://www.footprintnetwork.org/en/index.php/GFN/page/personal_footprint/" TargetMode="External"/><Relationship Id="rId5" Type="http://schemas.openxmlformats.org/officeDocument/2006/relationships/hyperlink" Target="http://www.footprintnetwork.org/en/index.php/GFN/page/personal_footprint/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5" descr=""/>
          <p:cNvPicPr/>
          <p:nvPr/>
        </p:nvPicPr>
        <p:blipFill>
          <a:blip r:embed="rId1"/>
          <a:stretch/>
        </p:blipFill>
        <p:spPr>
          <a:xfrm>
            <a:off x="-546120" y="0"/>
            <a:ext cx="10242720" cy="6858000"/>
          </a:xfrm>
          <a:prstGeom prst="rect">
            <a:avLst/>
          </a:prstGeom>
          <a:ln w="0">
            <a:noFill/>
          </a:ln>
        </p:spPr>
      </p:pic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2920" y="2514600"/>
            <a:ext cx="659916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entury Gothic"/>
              </a:rPr>
              <a:t>Energy Use in Everyday Life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1942920" y="4776480"/>
            <a:ext cx="659916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WABS/STEM Uni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401480" y="582480"/>
            <a:ext cx="72262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401480" y="1371240"/>
            <a:ext cx="7226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was difficul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assumptions did we have to mak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Do you think these values include the entire life cycle analysi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uses the differences between the by hand and online tool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do you and your classmates compare to the rest of the US? Europe?  The world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n students chang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4" name="Picture 5" descr="http://www.footprintnetwork.org/images/trends/2015/united_states_of_america.png"/>
          <p:cNvPicPr/>
          <p:nvPr/>
        </p:nvPicPr>
        <p:blipFill>
          <a:blip r:embed="rId1"/>
          <a:stretch/>
        </p:blipFill>
        <p:spPr>
          <a:xfrm>
            <a:off x="1596960" y="2608200"/>
            <a:ext cx="6318360" cy="3184560"/>
          </a:xfrm>
          <a:prstGeom prst="rect">
            <a:avLst/>
          </a:prstGeom>
          <a:ln w="0">
            <a:noFill/>
          </a:ln>
        </p:spPr>
      </p:pic>
      <p:sp>
        <p:nvSpPr>
          <p:cNvPr id="1215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Picture 2" descr="http://www.footprintnetwork.org/images/trends/2015/china.png"/>
          <p:cNvPicPr/>
          <p:nvPr/>
        </p:nvPicPr>
        <p:blipFill>
          <a:blip r:embed="rId1"/>
          <a:stretch/>
        </p:blipFill>
        <p:spPr>
          <a:xfrm>
            <a:off x="1533600" y="2085840"/>
            <a:ext cx="70009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Content Placeholder 6" descr="http://www.footprintnetwork.org/images/trends/2015/india.png"/>
          <p:cNvPicPr/>
          <p:nvPr/>
        </p:nvPicPr>
        <p:blipFill>
          <a:blip r:embed="rId1"/>
          <a:stretch/>
        </p:blipFill>
        <p:spPr>
          <a:xfrm>
            <a:off x="1282680" y="2065320"/>
            <a:ext cx="69343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2" descr="http://www.footprintnetwork.org/images/trends/2015/brazil.png"/>
          <p:cNvPicPr/>
          <p:nvPr/>
        </p:nvPicPr>
        <p:blipFill>
          <a:blip r:embed="rId2"/>
          <a:stretch/>
        </p:blipFill>
        <p:spPr>
          <a:xfrm>
            <a:off x="1692360" y="2109960"/>
            <a:ext cx="70549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ducing our footprint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942920" y="1460160"/>
            <a:ext cx="659124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As teenagers, which contributors to the carbon footprint can you control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Which contributors can you not control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617840" y="178920"/>
            <a:ext cx="65880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Can we change our carbon footprint by rethinking how we ea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88960" y="1956960"/>
            <a:ext cx="74772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26% of edible food is wasted and disposed of by Americ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10% of total U.S. greenhouse gas emissions in 2012 were from agricultural activities; livestock are major contributor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31 million school lunches served per day; 11 million school breakfast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ne student could potentially eat 4000 school meals from grades K-12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5" name=""/>
          <p:cNvGraphicFramePr/>
          <p:nvPr/>
        </p:nvGraphicFramePr>
        <p:xfrm>
          <a:off x="457200" y="746280"/>
          <a:ext cx="8112240" cy="5636880"/>
        </p:xfrm>
        <a:graphic>
          <a:graphicData uri="http://schemas.openxmlformats.org/drawingml/2006/table">
            <a:tbl>
              <a:tblPr/>
              <a:tblGrid>
                <a:gridCol w="4056120"/>
                <a:gridCol w="405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es Traveled to Consu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esh Produce (from CA and F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reakfast Ce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sed fruits and 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2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k and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-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14520" y="623520"/>
            <a:ext cx="7020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arm Up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185840" y="1386000"/>
            <a:ext cx="77184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st at least 10 activities you do on a daily basis that require energ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f all the things in your list above, which do you think uses the most energy overall?  Explai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ere do we get the energy we need to accomplish these tasks?  Describe in as much detail as you ca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3"/>
          <p:cNvSpPr/>
          <p:nvPr/>
        </p:nvSpPr>
        <p:spPr>
          <a:xfrm>
            <a:off x="1571760" y="1600200"/>
            <a:ext cx="7115040" cy="1222200"/>
          </a:xfrm>
          <a:prstGeom prst="rect">
            <a:avLst/>
          </a:prstGeom>
          <a:noFill/>
          <a:ln cap="rnd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Question for Projec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792080" y="1769760"/>
            <a:ext cx="65926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How can you make our school’s lunches more sustainable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will work in groups of 3 to address this challenge and propose your solution using an infographi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Agricultural Enginee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pply knowledge of engineering technology and biological science to agricultural problems concerned with power and machinery, electrification, structures, soil and water conservation, and processing of agricultural produ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n agricultural engineer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helors Degree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404040"/>
                </a:solidFill>
                <a:latin typeface="Century Gothic"/>
              </a:rPr>
              <a:t>What is a typical salary for an agricultural engineer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 $35.79  hourly, $74,45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Dietician/Nutritionis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food service or nutritional programs to assist in the promotion of health and control of disease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ay supervise activities of a department providing quantity food services, counsel individuals, or conduct nutritional research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 dietician or nutritionist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ost dietitians and nutritionists have a bachelor’s degree and have participated in supervised training through an internship or as part of their coursework. Many states require dietitians and nutritionists to be licensed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is a typical salary for a Marine Biologist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$26.88 hourly, $55,92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572840" y="804960"/>
            <a:ext cx="72010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b9bd5"/>
                </a:solidFill>
                <a:latin typeface="Century Gothic"/>
              </a:rPr>
              <a:t>Next Generation Science Standard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1573200" y="1329840"/>
            <a:ext cx="7569360" cy="32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Next Generation Science Standards Grades 9-12 (Ages 14-1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tudents who demonstrate understanding ca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P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an investigation to provide evidence that the transfer of thermal energy when two components of different temperature are combined within a closed system results in a more uniform energy distribution among the components in the system (second law of thermodynamics)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2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competing design solutions for developing, managing, and utilizing energy and mineral resources based on cost-benefit ratios.*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or refine a technological solution that reduces impacts of human activities on natural system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TS1-3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a solution to a complex real-world problem based on prioritized criteria and trade-offs that account for a range of constraints, including cost, safety, reliability, and aesthetics as well as possible social, cultural, and environmental impa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sourc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297000" y="1600200"/>
            <a:ext cx="85644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ttp://www.ecoliteracy.org/sites/default/files/uploads/rethinking_school_lunch_guid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www.cias.wisc.edu/wp-content/uploads/2008/07/energyus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css.snre.umich.edu/css_doc/CSS01-06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657080" y="623520"/>
            <a:ext cx="68770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ssential Questi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1657080" y="1571760"/>
            <a:ext cx="68770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effect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y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or habits can we change to reduce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can you make our school’s lunches more sustainabl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57000" y="623520"/>
            <a:ext cx="6977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Learning Objectiv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371240" y="1671120"/>
            <a:ext cx="716292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Students will be able t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xplain factors that determin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Identify factors that can be changed to reduc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Analyze the process and materials used in the cafeteria to reduce its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569600" y="579600"/>
            <a:ext cx="737388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1724040" y="1347840"/>
            <a:ext cx="68104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The ecological footprint measures how fast we consume resources and generate waste compared to how fast nature can absorb waste and generate new resourc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4" name="Picture 4" descr="basics-overview-510"/>
          <p:cNvPicPr/>
          <p:nvPr/>
        </p:nvPicPr>
        <p:blipFill>
          <a:blip r:embed="rId1"/>
          <a:stretch/>
        </p:blipFill>
        <p:spPr>
          <a:xfrm>
            <a:off x="2989440" y="3103560"/>
            <a:ext cx="450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76360" y="6634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Ecological Footprint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Picture 4" descr=""/>
          <p:cNvPicPr/>
          <p:nvPr/>
        </p:nvPicPr>
        <p:blipFill>
          <a:blip r:embed="rId1"/>
          <a:srcRect l="5289" t="56153" r="51467" b="8574"/>
          <a:stretch/>
        </p:blipFill>
        <p:spPr>
          <a:xfrm>
            <a:off x="2004840" y="2554200"/>
            <a:ext cx="5861160" cy="3694320"/>
          </a:xfrm>
          <a:prstGeom prst="rect">
            <a:avLst/>
          </a:prstGeom>
          <a:ln w="0">
            <a:noFill/>
          </a:ln>
        </p:spPr>
      </p:pic>
      <p:sp>
        <p:nvSpPr>
          <p:cNvPr id="1197" name="Text Box 5"/>
          <p:cNvSpPr/>
          <p:nvPr/>
        </p:nvSpPr>
        <p:spPr>
          <a:xfrm>
            <a:off x="1918800" y="6248520"/>
            <a:ext cx="62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rom Living Planet Report 2008, World Wildlife Fund, 200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1"/>
          <p:cNvSpPr/>
          <p:nvPr/>
        </p:nvSpPr>
        <p:spPr>
          <a:xfrm>
            <a:off x="1347840" y="1336680"/>
            <a:ext cx="752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cological footprints measure the extent to which humans are using the Earth</a:t>
            </a:r>
            <a:r>
              <a:rPr b="0" lang="ja-JP" sz="24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 bioproductive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342800" y="623520"/>
            <a:ext cx="7543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0" name="Content Placeholder 3" descr=""/>
          <p:cNvPicPr/>
          <p:nvPr/>
        </p:nvPicPr>
        <p:blipFill>
          <a:blip r:embed="rId1"/>
          <a:stretch/>
        </p:blipFill>
        <p:spPr>
          <a:xfrm>
            <a:off x="781200" y="1620720"/>
            <a:ext cx="8105760" cy="3922920"/>
          </a:xfrm>
          <a:prstGeom prst="rect">
            <a:avLst/>
          </a:prstGeom>
          <a:ln w="0">
            <a:noFill/>
          </a:ln>
        </p:spPr>
      </p:pic>
      <p:sp>
        <p:nvSpPr>
          <p:cNvPr id="1201" name="Rectangle 4"/>
          <p:cNvSpPr/>
          <p:nvPr/>
        </p:nvSpPr>
        <p:spPr>
          <a:xfrm>
            <a:off x="781200" y="5627520"/>
            <a:ext cx="81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2"/>
              </a:rPr>
              <a:t>Sustainability Illust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3"/>
              </a:rPr>
              <a:t>Ecological Footprint:  Do We Fit our Plant?  https://www.youtube.com/watch?v=g_aguo7V0Q4&amp;list=PLEXqjIYY5zi6hWCvm5idXYLH2Qtv7fT-f&amp;index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471680" y="542880"/>
            <a:ext cx="7215120" cy="8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What’s Your Ecological Footprin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914040" y="1300320"/>
            <a:ext cx="76582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e your personal carbon footprint at the following website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1"/>
              </a:rPr>
              <a:t>http://www.footprintnetwork.org/en/index.php/GFN/page/how_big_is_your_ecological_footprint_video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2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3"/>
              </a:rPr>
              <a:t>http://www.footprintnetwork.org/en/index.php/GFN/page/calculators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4"/>
              </a:rPr>
              <a:t>http://www.footprintnetwork.org/en/index.php/GFN/page/personal_footprint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5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4" name="Picture 2" descr="ftpt"/>
          <p:cNvPicPr/>
          <p:nvPr/>
        </p:nvPicPr>
        <p:blipFill>
          <a:blip r:embed="rId6"/>
          <a:stretch/>
        </p:blipFill>
        <p:spPr>
          <a:xfrm>
            <a:off x="1122480" y="2944800"/>
            <a:ext cx="65847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4296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ass Dat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856800" y="1557000"/>
            <a:ext cx="81550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dd a tally mark under the category that represents your footpri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(units are ‘Planet Earths’, or the number needed if everyone on Earth lived like you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741240" y="2906640"/>
          <a:ext cx="8402760" cy="3462480"/>
        </p:xfrm>
        <a:graphic>
          <a:graphicData uri="http://schemas.openxmlformats.org/drawingml/2006/table">
            <a:tbl>
              <a:tblPr/>
              <a:tblGrid>
                <a:gridCol w="1051200"/>
                <a:gridCol w="1049040"/>
                <a:gridCol w="1051200"/>
                <a:gridCol w="1050840"/>
                <a:gridCol w="1049400"/>
                <a:gridCol w="1050840"/>
                <a:gridCol w="1049400"/>
                <a:gridCol w="1050840"/>
              </a:tblGrid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 or 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51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8:36:45Z</dcterms:created>
  <dc:creator>Shoreline</dc:creator>
  <dc:description/>
  <dc:language>en-US</dc:language>
  <cp:lastModifiedBy>Madonna Brinkmann</cp:lastModifiedBy>
  <dcterms:modified xsi:type="dcterms:W3CDTF">2015-05-31T21:01:37Z</dcterms:modified>
  <cp:revision>31</cp:revision>
  <dc:subject/>
  <dc:title>Warm Up</dc:title>
</cp:coreProperties>
</file>