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07188-E234-404E-84C3-7A86FDCEE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2E3FA-3BE6-4B68-B417-4ED7A51E8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DF35-6F43-4293-B32B-4D6325C8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0AD-EC30-474F-8721-7506C324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E1C4D-328A-4966-9905-5D36FD61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0D420-C91A-467D-A805-952073F4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5C30F-F5F3-4127-A04D-2970175B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92275-D140-41A8-8AB6-44FFA9FE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60DCE-A01A-49E0-8037-C510BD11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24C7D-C3A0-443E-AF5A-61467322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899C9-40F4-459C-B483-96F927B1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1BB7A-AEB9-4095-A50A-32F950E8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20C97-2CD9-4E0C-9435-89B1B18F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3F9F1-5598-4CCD-9957-499E42DB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ADD-2E71-4A71-B581-512EF1D1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B01A3-CC2B-4C37-838C-2E6175C0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1CFC0-CB94-43CD-A445-E8BBC128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A9759-BAFF-4955-8023-41DC3830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451CC-DE02-4863-AD1F-8B86CBF4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22F60-193A-47A7-A65C-A803A4D8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6D6F8-3FF8-4722-B3EC-B692AF11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B0EC0-9678-4E89-A0BA-77DE2123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483B0-A8F7-4B5A-BA17-3A42F628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2B898-6CA6-47ED-B928-1433D287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2DB8B-C428-4A05-A8D0-F71D1E1E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C91-1B59-45FC-9BCE-3DD1080B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E897E-8058-4B27-B751-F6EA1FED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8F215-3316-4FF8-AD9B-BAD4B962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54843-354C-48BF-ABC0-A080FFCF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537F1-D3F4-4352-9FA8-A1BEF979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ACD58-1903-45BD-BB70-10F9487F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CAB88-7E0E-478B-9139-05D1B245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5435C-2A84-41AD-AE7B-A14C0B5C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CC97D-83FD-497D-9EAB-16B70F4B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AC543-F490-4373-9187-16E70EDE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06CA7-8339-4913-B852-70315729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681F-20C2-44C5-B2BC-DAF27C79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30652-3E5B-455B-927C-01E10126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AF089-1321-4058-8684-5108B105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783D6-AAF0-4F95-ADF5-C4A87FF1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31138-17B6-410A-9153-E0EED280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8A745-4FCD-4024-8F01-B4A699EF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E6A2E-D93B-47A3-A74A-0B4799F9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EBF2C-3F8C-44B5-A296-08B27C25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D50C0-05F0-49CF-80FC-20857E7A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7B34A-5DD6-49B4-8BC1-38AA7F99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D2AF9-47F2-49A9-B8F1-7A9308F6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6D0D-7348-409A-B389-18F3D248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E4C44-0639-4A04-B579-08FECA2F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AFCA7-C08F-4449-BF05-1C1F462C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AD616-F3AB-49AF-91D4-9D7C20B4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5BBEA-F175-4B5D-8DA1-AE35300C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AE895-BD47-4A48-BEF5-A76C907C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6BD22-D5FC-4AAB-9AFB-A525259D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F25D9-A228-4848-B8EA-A1DC5D0F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293DA-7216-46EE-8CB0-D346CF0F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490FE-59FB-4AB4-BFC3-266F45D8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89C68-7DDB-44F1-AE6D-DA043AF9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7F00-6CB9-4B7B-9648-D5053111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4CED5E-11A7-4D38-B8EA-B6F85ED9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B671F-4DAE-43AE-AC7E-2674B7C7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F137F-2E03-461C-B7E2-E66C917F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9B5C1-48CA-4EDB-9D48-939F1B38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56468-45B1-498F-BE0F-0DA53DAE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04F86-597B-4467-A38A-676E346A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06F16-7255-4C91-B8A3-29634F3C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15016-D5C7-407D-AF51-28CAB73F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8E668-E235-4DB3-A1B2-D6322762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DFD83-1C48-473B-B35B-C4982C31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8EE4-D31C-4B67-A6D4-AB819E66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19A54-5BC1-400A-95C3-B4C9FC70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8F83BB-9561-4E37-B9AD-89643988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85AE4-4C5C-424C-AF19-B7C45B81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EBB0ED-A327-4D59-B8DD-01AB1D8E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C85A1A-2E46-43FE-8BB4-F4A39741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A40A6-C281-4A99-87CF-F1AE622D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6AEDF1-9EE1-4166-94B3-B7E382D8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85198-D8D7-4FF5-BE90-2828E2A8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D4012-3137-4438-8D5B-0424012C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2C91F9-9263-4908-8483-CBD78BA4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07EF-09CC-4BCA-BCA7-EF8A7107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B27233-493E-4151-8B23-7D0EF773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39263F-1E0D-4DA7-AEF2-D14C5887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11B0B4-C145-40D0-B23D-C9B92229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46317E-502D-432D-955A-90928C59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182A7-01E2-4FC0-93C1-67AC341E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5FE7F1-9E8E-484B-9FE7-1618F2FB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95E6C-664F-4E57-81CF-9435DF5A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E6684D-9AC9-4486-B7C3-C9C6CC8A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9AD996-E2C7-4886-89DB-3C85413F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B41BAB-989C-4272-AFD8-914E15E5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F577-F290-4012-9A91-231C70C4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12ED89-2156-458A-A3A5-E1E5A351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8EA171-C016-44F6-9F3B-A471B08F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BDF86D-2CE4-4181-9417-FA13E56D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72630-07D7-4950-A61C-009099B9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1EC4B-E9D2-45BF-90D1-2FCA474D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DEC1A5-5181-4CC1-9717-30974FF5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5AC700-210D-48F0-83AA-2E78DF52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1BD071-DDA2-4F1E-B3F2-3A004228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07211D-CB1D-48DD-AC56-E84628D4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351C49-8C3F-4880-AAE2-767D4241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2D26-3A39-473C-9B5C-5DDEF626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808114-543F-4D91-8863-CC8301F6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FB654A-004B-45DE-AAB5-AE126668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5E9AB3-F5F5-4B22-A04C-4CBFBA58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89A822-8166-4ED5-8470-52BBF14F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FB4323-6C6F-461C-95F1-831D947C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5D2C8D-540F-4171-B90A-1D47EA80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B4451F-0A52-466B-B915-F21E7059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2CC48E-5AB9-4365-BE63-288F9641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D9B22D-8E72-415F-A83B-BCAF79C9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4B7226-2D05-4F34-99C0-0A701767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681-DA95-45E3-AFB1-A1D837B8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0554-F8CD-48DF-8745-9224EA84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96A4EA-E95E-43CD-B396-F4540D2D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57B6AB-7E1C-4846-8820-0D5ECC0B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D7538F-6AB1-4DED-AD96-0DD7070A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AC1B91-19E6-485D-862B-B02C99CE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5553EA-209A-4489-9157-AFC7494C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56C7-0B1B-4DC4-A56B-9773022D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AA4A-2690-4235-A477-473BF774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E544-D90B-403D-AB53-75AD423F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475B-F9F9-41A8-BDF6-3D01136B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4713A-754E-478D-A432-5B15B18D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78769-BB35-4224-A901-0353E1AA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38E02-4CAA-4B37-8710-0768BA65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AD18B-DE7D-4C18-A8ED-8574BEF2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01FA8-5DA0-4609-B5DF-8C2E8DA8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B6B-26E3-4E55-88D2-D15A98E0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34EA6-12E9-43AA-A12B-DBBA4C4F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F0E18-B9B9-4C18-88A1-8F4328DF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3D372-C13B-4CDF-88D9-EA4CDF41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995F2-B7F3-45EF-A63D-6CBC15BE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CD6BF-4AEE-4634-9457-BFE7063F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7EBBE-BDC8-4166-BD5D-F8B6DDB4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D4925-63FE-4533-A506-95427DC5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4CBF0-4023-45AA-8E80-CC8F7047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B4AA1-C7C6-4112-80FD-20056388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A80BF-3448-4372-9F0E-FD53A6FB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259-88A1-4171-9CA2-BF2C19EC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5E1C1-14C3-485F-83DB-7AA6DDEC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47464-6F55-431D-94B9-A3001E1C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D246D-1B5E-4627-A942-55C4B604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4895E-0AC0-440D-B196-A2B4A291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86303-9DF2-4486-AB88-4E48A488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B2C94-D7AA-4399-8B85-54F9BF92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E5417-555E-4325-804D-532FAF47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EF57E-0A45-4006-B3CF-87DD08CA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E10FE-3A9A-4931-BF95-09750AC7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BC12D-9353-4E4E-9DC1-D4F1D29A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A4F6-301F-4D63-86DE-8B94BAA7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20348-56E6-4D5E-8E97-B687DBC0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82EB0-15A9-4277-85A9-848FA0B8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B134B-4D89-450A-B033-0C469148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038F9-D4AF-436E-9B00-631C627C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98D65-5785-4FFC-9CDD-6FCFBA8A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2417A-927D-4197-84F2-1CF5BBBE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AA856-1B21-464B-9179-7901C150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4A96E-D38A-4613-B4E2-0BCBA194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1780C-FEE9-43B6-9DEE-BB36A2B8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75DDA-B2B6-44C1-92BB-52FD5C2E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560-90D4-4A57-A800-C009002A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D4E70-96CE-462B-802A-7DBD217A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A975B-7955-4EBF-9AAC-74D36F63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EF182-68DA-4848-8FA6-82D37ED5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3BB6C-BEF5-4881-B4D9-35CF8346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836EF-62D5-4137-B07C-45DFFDAC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399F3-5222-4829-8C62-B10CBB93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C1F55-076C-4581-8DE8-0696233B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0C88F-2EF7-4BC1-B239-046DA66B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97C45-A57C-48C2-A2BF-C87B2CFD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B8245-7670-4234-AD4F-4AA73D70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CCA-405B-404C-9422-2EA544B4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D2962-F205-4068-B489-522929FA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F5A90-0BE3-4CF4-9C52-DFF60894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9F5EE-870C-4EDD-A39A-7ABEB08E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D866A-0EC5-462D-9F6D-BFDC55D6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89B61-1DF9-4AF6-901D-9DF92823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89F93-F233-4E6E-A15A-E5EB7CE0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281C3-986F-4B00-8793-990A663E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D85E2-7957-4248-8FFA-8CAAD3A8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01447-E1DA-4B3B-AAC9-2DADABA0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695E8-4504-4720-BEB0-C5323415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BB7-B1A8-4E77-80C3-2C56C463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4BC9B-E190-43F1-AFCF-0E2ED385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1513E-F9D3-4C68-AE91-230DE93C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6C98A-40EA-496D-A4AB-B1BE58AA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6562A-C8C1-4829-8FAA-2806BE64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FE022-82EF-45F8-A4BF-66F7F0D4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998C8-750A-4F92-8C16-CEFA22EC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F4FBA-BCA7-439F-B960-C24572D0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6D942-921A-461C-ACC7-3D8276DF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F56A0-D295-47C1-A933-9A5F439E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911F7-86E9-4F89-BEE1-660E54DE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261-55F4-4612-A9B8-C10758CE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66220-56B6-4864-87A4-ED31CC7C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091C6-FAA4-4378-AE8B-B8CC618D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0AD2C-416D-4780-AC85-7E2AF658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0967B-B4DC-4052-932E-F5C6A320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01692-3949-439D-A059-2FA92F33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8504A-CFC2-4DBB-881F-F892B5FB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5E1ED-4F61-41CF-B5A1-EA2B7307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4F81A-6B0D-44C5-BA50-C2DAFA4B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B0307-90E3-4003-8FF7-C4E00FCE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0CAD7-7A66-459D-A7B9-43EA598E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2FB2C-4C24-425E-82CA-571238C735C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58A3E-2A6A-495D-AB38-518320D60CC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8F262-142A-4F43-93C3-980DA77B538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CB4C3-44A7-428B-88E7-620A23914CD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04EF4-44AB-423E-8555-1E318D8814B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9D4EB-FB16-4D9F-B356-8AEB5E3D3B9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BE2EA-88F5-4208-9EED-347735D5B93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2EFF4-21C5-40FA-9EDF-199E7AEDC71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020A3-7F6A-4B6C-9D9E-C7704F588C3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25B6D-DD3C-4C83-A315-6B3B3C34A77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48421-4473-4BE4-822B-5A24A1C7A43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2DFFB-B53F-4FEB-82A8-EDD61A7453D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26276-306F-408F-B330-18959BA2FE4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AD9C2-3512-47BA-822C-62DD3164DD5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015E8-D163-4DA4-9432-3D295284954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5DFB7-491F-48BD-9BC1-64FAA08B9B1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403D0-7579-4101-8902-AB9819E0542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depts.washington.edu/marbio/links/prospective.html" TargetMode="External"/><Relationship Id="rId2" Type="http://schemas.openxmlformats.org/officeDocument/2006/relationships/hyperlink" Target="http://depts.washington.edu/marbio/links/prospective.html" TargetMode="External"/><Relationship Id="rId3" Type="http://schemas.openxmlformats.org/officeDocument/2006/relationships/hyperlink" Target="http://www.marinecareers.net/marine-biology" TargetMode="External"/><Relationship Id="rId4" Type="http://schemas.openxmlformats.org/officeDocument/2006/relationships/hyperlink" Target="http://www.marinecareers.net/marine-biology" TargetMode="External"/><Relationship Id="rId5" Type="http://schemas.openxmlformats.org/officeDocument/2006/relationships/hyperlink" Target="http://www.indeed.com/salary/q-Marine-Biologist-l-Washington.html" TargetMode="External"/><Relationship Id="rId6" Type="http://schemas.openxmlformats.org/officeDocument/2006/relationships/hyperlink" Target="http://www.indeed.com/salary/q-Marine-Biologist-l-Washington.html" TargetMode="External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epts.washington.edu/marbio/links/prospective.html" TargetMode="External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www.youtube.com/watch?v=g_aguo7V0Q4&amp;list=PLEXqjIYY5zi6hWCvm5idXYLH2Qtv7fT-f&amp;index=2" TargetMode="External"/><Relationship Id="rId3" Type="http://schemas.openxmlformats.org/officeDocument/2006/relationships/hyperlink" Target="https://www.youtube.com/watch?v=g_aguo7V0Q4&amp;list=PLEXqjIYY5zi6hWCvm5idXYLH2Qtv7fT-f&amp;index=2" TargetMode="Externa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ootprintnetwork.org/en/index.php/GFN/page/calculators/" TargetMode="External"/><Relationship Id="rId2" Type="http://schemas.openxmlformats.org/officeDocument/2006/relationships/hyperlink" Target="http://www.footprintnetwork.org/en/index.php/GFN/page/calculators/" TargetMode="External"/><Relationship Id="rId3" Type="http://schemas.openxmlformats.org/officeDocument/2006/relationships/hyperlink" Target="http://www.footprintnetwork.org/en/index.php/GFN/page/calculators/" TargetMode="External"/><Relationship Id="rId4" Type="http://schemas.openxmlformats.org/officeDocument/2006/relationships/hyperlink" Target="http://www.footprintnetwork.org/en/index.php/GFN/page/personal_footprint/" TargetMode="External"/><Relationship Id="rId5" Type="http://schemas.openxmlformats.org/officeDocument/2006/relationships/hyperlink" Target="http://www.footprintnetwork.org/en/index.php/GFN/page/personal_footprint/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5" descr=""/>
          <p:cNvPicPr/>
          <p:nvPr/>
        </p:nvPicPr>
        <p:blipFill>
          <a:blip r:embed="rId1"/>
          <a:stretch/>
        </p:blipFill>
        <p:spPr>
          <a:xfrm>
            <a:off x="-546120" y="0"/>
            <a:ext cx="10242720" cy="6858000"/>
          </a:xfrm>
          <a:prstGeom prst="rect">
            <a:avLst/>
          </a:prstGeom>
          <a:ln w="0">
            <a:noFill/>
          </a:ln>
        </p:spPr>
      </p:pic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2920" y="2514600"/>
            <a:ext cx="659916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entury Gothic"/>
              </a:rPr>
              <a:t>Energy Use in Everyday Life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1942920" y="4776480"/>
            <a:ext cx="659916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WABS/STEM Uni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401480" y="582480"/>
            <a:ext cx="72262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1401480" y="1371240"/>
            <a:ext cx="7226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Calculati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was difficul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assumptions did we have to mak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Do you think these values include the entire life cycle analysi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auses the differences between the by hand and online tool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42880" y="622080"/>
            <a:ext cx="729792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1057320" y="1371600"/>
            <a:ext cx="782784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festyle cho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How do you and your classmates compare to the rest of the US? Europe?  The world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hoices result in the largest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the role of diet: food-miles, relative impact of red meat, other meat, dairy, and all other food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ich portions of the carbon footprint do  students personally control, vs. their parents, vs. broader society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an students chang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4" name="Picture 5" descr="http://www.footprintnetwork.org/images/trends/2015/united_states_of_america.png"/>
          <p:cNvPicPr/>
          <p:nvPr/>
        </p:nvPicPr>
        <p:blipFill>
          <a:blip r:embed="rId1"/>
          <a:stretch/>
        </p:blipFill>
        <p:spPr>
          <a:xfrm>
            <a:off x="1596960" y="2608200"/>
            <a:ext cx="6318360" cy="3184560"/>
          </a:xfrm>
          <a:prstGeom prst="rect">
            <a:avLst/>
          </a:prstGeom>
          <a:ln w="0">
            <a:noFill/>
          </a:ln>
        </p:spPr>
      </p:pic>
      <p:sp>
        <p:nvSpPr>
          <p:cNvPr id="1215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7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9" name="Picture 2" descr="http://www.footprintnetwork.org/images/trends/2015/china.png"/>
          <p:cNvPicPr/>
          <p:nvPr/>
        </p:nvPicPr>
        <p:blipFill>
          <a:blip r:embed="rId1"/>
          <a:stretch/>
        </p:blipFill>
        <p:spPr>
          <a:xfrm>
            <a:off x="1533600" y="2085840"/>
            <a:ext cx="70009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3" name="Content Placeholder 6" descr="http://www.footprintnetwork.org/images/trends/2015/india.png"/>
          <p:cNvPicPr/>
          <p:nvPr/>
        </p:nvPicPr>
        <p:blipFill>
          <a:blip r:embed="rId1"/>
          <a:stretch/>
        </p:blipFill>
        <p:spPr>
          <a:xfrm>
            <a:off x="1282680" y="2065320"/>
            <a:ext cx="69343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2" descr="http://www.footprintnetwork.org/images/trends/2015/brazil.png"/>
          <p:cNvPicPr/>
          <p:nvPr/>
        </p:nvPicPr>
        <p:blipFill>
          <a:blip r:embed="rId2"/>
          <a:stretch/>
        </p:blipFill>
        <p:spPr>
          <a:xfrm>
            <a:off x="1692360" y="2109960"/>
            <a:ext cx="70549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442880" y="622080"/>
            <a:ext cx="729792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1057320" y="1371600"/>
            <a:ext cx="782784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festyle cho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hoices result in the largest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the role of diet: food-miles, relative impact of red meat, other meat, dairy, and all other food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ich portions of the carbon footprint do  students personally control, vs. their parents, vs. broader society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Reducing our footprint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942920" y="1460160"/>
            <a:ext cx="659124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As teenagers, which contributors to the carbon footprint can you control?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Which contributors can you not control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617840" y="178920"/>
            <a:ext cx="658800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Can we change our carbon footprint by rethinking how we eat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488960" y="1956960"/>
            <a:ext cx="74772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26% of edible food is wasted and disposed of by Americ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10% of total U.S. greenhouse gas emissions in 2012 were from agricultural activities; livestock are major contributor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31 million school lunches served per day; 11 million school breakfast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ne student could potentially eat 4000 school meals from grades K-12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5" name=""/>
          <p:cNvGraphicFramePr/>
          <p:nvPr/>
        </p:nvGraphicFramePr>
        <p:xfrm>
          <a:off x="457200" y="746280"/>
          <a:ext cx="8112240" cy="5636880"/>
        </p:xfrm>
        <a:graphic>
          <a:graphicData uri="http://schemas.openxmlformats.org/drawingml/2006/table">
            <a:tbl>
              <a:tblPr/>
              <a:tblGrid>
                <a:gridCol w="4056120"/>
                <a:gridCol w="405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es Traveled to Consu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esh Produce (from CA and F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reakfast Cere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cessed fruits and veget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2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k and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-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514520" y="623520"/>
            <a:ext cx="70200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arm Up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185840" y="1386000"/>
            <a:ext cx="771840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st at least 10 activities you do on a daily basis that require energy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f all the things in your list above, which do you think uses the most energy overall?  Explai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ere do we get the energy we need to accomplish these tasks?  Describe in as much detail as you ca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3"/>
          <p:cNvSpPr/>
          <p:nvPr/>
        </p:nvSpPr>
        <p:spPr>
          <a:xfrm>
            <a:off x="1571760" y="1600200"/>
            <a:ext cx="7115040" cy="1222200"/>
          </a:xfrm>
          <a:prstGeom prst="rect">
            <a:avLst/>
          </a:prstGeom>
          <a:noFill/>
          <a:ln cap="rnd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Question for Projec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1792080" y="1769760"/>
            <a:ext cx="65926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How can you make our school’s lunches more sustainable?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 will work in groups of 3 to address this challenge and propose your solution using an infographic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466640" y="568440"/>
            <a:ext cx="7211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areer:  Agricultural Engineer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1120680" y="1285560"/>
            <a:ext cx="7608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do they do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pply knowledge of engineering technology and biological science to agricultural problems concerned with power and machinery, electrification, structures, soil and water conservation, and processing of agricultural product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What are some key skills necessary to become an agricultural engineer?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kground in biology and chemistry, ability to keep records and analyze data, ability to work with a wide range of people; written and oral comprehens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What kind of training is involved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helors Degree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404040"/>
                </a:solidFill>
                <a:latin typeface="Century Gothic"/>
              </a:rPr>
              <a:t>What is a typical salary for an agricultural engineer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verage Salary:  $35.79  hourly, $74,450 annual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Rectangle 4"/>
          <p:cNvSpPr/>
          <p:nvPr/>
        </p:nvSpPr>
        <p:spPr>
          <a:xfrm>
            <a:off x="1120680" y="6211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pts.washington.edu/marbio/links/prospective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marinecareers.net/marine-biolog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indeed.com/salary/q-Marine-Biologist-l-Washington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466640" y="568440"/>
            <a:ext cx="7211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areer:  Dietician/Nutritionis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1120680" y="1285560"/>
            <a:ext cx="7608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do they do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Plan and conduct food service or nutritional programs to assist in the promotion of health and control of disease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May supervise activities of a department providing quantity food services, counsel individuals, or conduct nutritional research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What are some key skills necessary to become a dietician or nutritionist?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kground in biology and chemistry, ability to keep records and analyze data, ability to work with a wide range of people; written and oral comprehens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What kind of training is involved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Most dietitians and nutritionists have a bachelor’s degree and have participated in supervised training through an internship or as part of their coursework. Many states require dietitians and nutritionists to be licensed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is a typical salary for a Marine Biologist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verage salary: $26.88 hourly, $55,920 annual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Rectangle 4"/>
          <p:cNvSpPr/>
          <p:nvPr/>
        </p:nvSpPr>
        <p:spPr>
          <a:xfrm>
            <a:off x="1120680" y="6211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epts.washington.edu/marbio/links/prospective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marinecareers.net/marine-biolog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indeed.com/salary/q-Marine-Biologist-l-Washington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572840" y="804960"/>
            <a:ext cx="72010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b9bd5"/>
                </a:solidFill>
                <a:latin typeface="Century Gothic"/>
              </a:rPr>
              <a:t>Next Generation Science Standard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1573200" y="1329840"/>
            <a:ext cx="7569360" cy="32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Next Generation Science Standards Grades 9-12 (Ages 14-18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tudents who demonstrate understanding ca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PS3-4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Plan and conduct an investigation to provide evidence that the transfer of thermal energy when two components of different temperature are combined within a closed system results in a more uniform energy distribution among the components in the system (second law of thermodynamics)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SS3-2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competing design solutions for developing, managing, and utilizing energy and mineral resources based on cost-benefit ratios.*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SS3-4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or refine a technological solution that reduces impacts of human activities on natural system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TS1-3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a solution to a complex real-world problem based on prioritized criteria and trade-offs that account for a range of constraints, including cost, safety, reliability, and aesthetics as well as possible social, cultural, and environmental impact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Resourc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297000" y="1600200"/>
            <a:ext cx="85644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ttp://www.ecoliteracy.org/sites/default/files/uploads/rethinking_school_lunch_guide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http://www.cias.wisc.edu/wp-content/uploads/2008/07/energyuse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http://css.snre.umich.edu/css_doc/CSS01-06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657080" y="623520"/>
            <a:ext cx="68770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ssential Questio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1657080" y="1571760"/>
            <a:ext cx="68770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factors effect 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y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factors or habits can we change to reduce 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How can you make our school’s lunches more sustainabl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57000" y="623520"/>
            <a:ext cx="6977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Learning Objectiv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1371240" y="1671120"/>
            <a:ext cx="7162920" cy="42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Students will be able t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xplain factors that determine their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Identify factors that can be changed to reduce their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Analyze the process and materials used in the cafeteria to reduce its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569600" y="579600"/>
            <a:ext cx="737388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hat is an ecological footpri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1724040" y="1347840"/>
            <a:ext cx="68104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The ecological footprint measures how fast we consume resources and generate waste compared to how fast nature can absorb waste and generate new resource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4" name="Picture 4" descr="basics-overview-510"/>
          <p:cNvPicPr/>
          <p:nvPr/>
        </p:nvPicPr>
        <p:blipFill>
          <a:blip r:embed="rId1"/>
          <a:stretch/>
        </p:blipFill>
        <p:spPr>
          <a:xfrm>
            <a:off x="2989440" y="3103560"/>
            <a:ext cx="450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76360" y="6634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Ecological Footprint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6" name="Picture 4" descr=""/>
          <p:cNvPicPr/>
          <p:nvPr/>
        </p:nvPicPr>
        <p:blipFill>
          <a:blip r:embed="rId1"/>
          <a:srcRect l="5289" t="56153" r="51467" b="8574"/>
          <a:stretch/>
        </p:blipFill>
        <p:spPr>
          <a:xfrm>
            <a:off x="2004840" y="2554200"/>
            <a:ext cx="5861160" cy="3694320"/>
          </a:xfrm>
          <a:prstGeom prst="rect">
            <a:avLst/>
          </a:prstGeom>
          <a:ln w="0">
            <a:noFill/>
          </a:ln>
        </p:spPr>
      </p:pic>
      <p:sp>
        <p:nvSpPr>
          <p:cNvPr id="1197" name="Text Box 5"/>
          <p:cNvSpPr/>
          <p:nvPr/>
        </p:nvSpPr>
        <p:spPr>
          <a:xfrm>
            <a:off x="1918800" y="6248520"/>
            <a:ext cx="62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rom Living Planet Report 2008, World Wildlife Fund, 200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1"/>
          <p:cNvSpPr/>
          <p:nvPr/>
        </p:nvSpPr>
        <p:spPr>
          <a:xfrm>
            <a:off x="1347840" y="1336680"/>
            <a:ext cx="7526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cological footprints measure the extent to which humans are using the Earth</a:t>
            </a:r>
            <a:r>
              <a:rPr b="0" lang="ja-JP" sz="24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 bioproductive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342800" y="623520"/>
            <a:ext cx="7543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hat is an Ecological Footpri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0" name="Content Placeholder 3" descr=""/>
          <p:cNvPicPr/>
          <p:nvPr/>
        </p:nvPicPr>
        <p:blipFill>
          <a:blip r:embed="rId1"/>
          <a:stretch/>
        </p:blipFill>
        <p:spPr>
          <a:xfrm>
            <a:off x="781200" y="1620720"/>
            <a:ext cx="8105760" cy="3922920"/>
          </a:xfrm>
          <a:prstGeom prst="rect">
            <a:avLst/>
          </a:prstGeom>
          <a:ln w="0">
            <a:noFill/>
          </a:ln>
        </p:spPr>
      </p:pic>
      <p:sp>
        <p:nvSpPr>
          <p:cNvPr id="1201" name="Rectangle 4"/>
          <p:cNvSpPr/>
          <p:nvPr/>
        </p:nvSpPr>
        <p:spPr>
          <a:xfrm>
            <a:off x="781200" y="5627520"/>
            <a:ext cx="81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MS PGothic"/>
                <a:hlinkClick r:id="rId2"/>
              </a:rPr>
              <a:t>Sustainability Illust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MS PGothic"/>
                <a:hlinkClick r:id="rId3"/>
              </a:rPr>
              <a:t>Ecological Footprint:  Do We Fit our Plant?  https://www.youtube.com/watch?v=g_aguo7V0Q4&amp;list=PLEXqjIYY5zi6hWCvm5idXYLH2Qtv7fT-f&amp;index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471680" y="542880"/>
            <a:ext cx="7215120" cy="8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What’s Your Ecological Footprint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914040" y="1300320"/>
            <a:ext cx="765828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Calculate your personal carbon footprint at the following website: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1"/>
              </a:rPr>
              <a:t>http://www.footprintnetwork.org/en/index.php/GFN/page/how_big_is_your_ecological_footprint_video</a:t>
            </a: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2"/>
              </a:rPr>
              <a:t>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3"/>
              </a:rPr>
              <a:t>http://www.footprintnetwork.org/en/index.php/GFN/page/calculators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4"/>
              </a:rPr>
              <a:t>http://www.footprintnetwork.org/en/index.php/GFN/page/personal_footprint</a:t>
            </a: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5"/>
              </a:rPr>
              <a:t>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4" name="Picture 2" descr="ftpt"/>
          <p:cNvPicPr/>
          <p:nvPr/>
        </p:nvPicPr>
        <p:blipFill>
          <a:blip r:embed="rId6"/>
          <a:stretch/>
        </p:blipFill>
        <p:spPr>
          <a:xfrm>
            <a:off x="1122480" y="2944800"/>
            <a:ext cx="658476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54296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ass Dat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856800" y="1557000"/>
            <a:ext cx="81550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dd a tally mark under the category that represents your footpri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(units are ‘Planet Earths’, or the number needed if everyone on Earth lived like you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741240" y="2906640"/>
          <a:ext cx="8402760" cy="3462480"/>
        </p:xfrm>
        <a:graphic>
          <a:graphicData uri="http://schemas.openxmlformats.org/drawingml/2006/table">
            <a:tbl>
              <a:tblPr/>
              <a:tblGrid>
                <a:gridCol w="1051200"/>
                <a:gridCol w="1049040"/>
                <a:gridCol w="1051200"/>
                <a:gridCol w="1050840"/>
                <a:gridCol w="1049400"/>
                <a:gridCol w="1050840"/>
                <a:gridCol w="1049400"/>
                <a:gridCol w="1050840"/>
              </a:tblGrid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5 or 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51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8:36:45Z</dcterms:created>
  <dc:creator>Shoreline</dc:creator>
  <dc:description/>
  <dc:language>en-US</dc:language>
  <cp:lastModifiedBy>Madonna Brinkmann</cp:lastModifiedBy>
  <dcterms:modified xsi:type="dcterms:W3CDTF">2015-05-31T21:01:37Z</dcterms:modified>
  <cp:revision>31</cp:revision>
  <dc:subject/>
  <dc:title>Warm Up</dc:title>
</cp:coreProperties>
</file>