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60000" cy="7734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81F-44CF-4FC2-8A73-A7531506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9FA-0662-47A5-B60A-62D0083A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FD9A-4E3F-4CE1-B102-4DCD843A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060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060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CD7-4A4B-449A-98BF-B927D9AB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08E-6626-4C2A-935A-DA4C9980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112-2A50-4C39-9AC4-A31220C0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F80-D0B8-4ABA-AA46-E30A1886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8E0-358D-41DE-A181-897924BE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8520"/>
            <a:ext cx="9143280" cy="59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2FF-5C00-4413-9E86-000BD282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337-176D-4B47-806E-3F8A9534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556-A404-416D-9705-7352C52D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EE2-6404-4F3D-90D7-F01298EB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840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65640" y="7169040"/>
            <a:ext cx="3428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17552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4FF4E41-42C9-4545-819A-F220A029D132}" type="slidenum">
              <a:rPr b="0" lang="en-US" sz="10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84"/>
          <p:cNvSpPr/>
          <p:nvPr/>
        </p:nvSpPr>
        <p:spPr>
          <a:xfrm>
            <a:off x="101520" y="4699080"/>
            <a:ext cx="10108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energy: energy stored in the nucleus of an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hape 8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336600"/>
            <a:ext cx="3617640" cy="2739600"/>
          </a:xfrm>
          <a:prstGeom prst="rect">
            <a:avLst/>
          </a:prstGeom>
          <a:ln w="0">
            <a:noFill/>
          </a:ln>
        </p:spPr>
      </p:pic>
      <p:pic>
        <p:nvPicPr>
          <p:cNvPr id="43" name="Shape 8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099200" y="241200"/>
            <a:ext cx="2892240" cy="2225160"/>
          </a:xfrm>
          <a:prstGeom prst="rect">
            <a:avLst/>
          </a:prstGeom>
          <a:ln w="0">
            <a:noFill/>
          </a:ln>
        </p:spPr>
      </p:pic>
      <p:pic>
        <p:nvPicPr>
          <p:cNvPr id="44" name="Shape 87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67160" y="1854360"/>
            <a:ext cx="3528720" cy="2479320"/>
          </a:xfrm>
          <a:prstGeom prst="rect">
            <a:avLst/>
          </a:prstGeom>
          <a:ln w="0">
            <a:noFill/>
          </a:ln>
        </p:spPr>
      </p:pic>
      <p:sp>
        <p:nvSpPr>
          <p:cNvPr id="45" name="Shape 88"/>
          <p:cNvSpPr/>
          <p:nvPr/>
        </p:nvSpPr>
        <p:spPr>
          <a:xfrm>
            <a:off x="-12965040" y="2276640"/>
            <a:ext cx="185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hape 149"/>
          <p:cNvSpPr/>
          <p:nvPr/>
        </p:nvSpPr>
        <p:spPr>
          <a:xfrm>
            <a:off x="241200" y="5041800"/>
            <a:ext cx="98294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energy: stored energy generated by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fie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Shape 150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20840" y="596880"/>
            <a:ext cx="4079520" cy="4079520"/>
          </a:xfrm>
          <a:prstGeom prst="rect">
            <a:avLst/>
          </a:prstGeom>
          <a:ln w="0">
            <a:noFill/>
          </a:ln>
        </p:spPr>
      </p:pic>
      <p:pic>
        <p:nvPicPr>
          <p:cNvPr id="72" name="Shape 151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019920" y="1765440"/>
            <a:ext cx="2945880" cy="27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hape 156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419040"/>
            <a:ext cx="9758160" cy="5676480"/>
          </a:xfrm>
          <a:prstGeom prst="rect">
            <a:avLst/>
          </a:prstGeom>
          <a:ln w="0">
            <a:noFill/>
          </a:ln>
        </p:spPr>
      </p:pic>
      <p:sp>
        <p:nvSpPr>
          <p:cNvPr id="74" name="Shape 157"/>
          <p:cNvSpPr/>
          <p:nvPr/>
        </p:nvSpPr>
        <p:spPr>
          <a:xfrm>
            <a:off x="8572680" y="914400"/>
            <a:ext cx="7617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4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hape 162"/>
          <p:cNvSpPr/>
          <p:nvPr/>
        </p:nvSpPr>
        <p:spPr>
          <a:xfrm>
            <a:off x="254160" y="558720"/>
            <a:ext cx="5638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e Goldberg Machine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hape 16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6320" y="2565360"/>
            <a:ext cx="9951840" cy="4111200"/>
          </a:xfrm>
          <a:prstGeom prst="rect">
            <a:avLst/>
          </a:prstGeom>
          <a:ln w="0">
            <a:noFill/>
          </a:ln>
        </p:spPr>
      </p:pic>
      <p:sp>
        <p:nvSpPr>
          <p:cNvPr id="77" name="Shape 164"/>
          <p:cNvSpPr/>
          <p:nvPr/>
        </p:nvSpPr>
        <p:spPr>
          <a:xfrm>
            <a:off x="330120" y="1511280"/>
            <a:ext cx="102866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times.com/video/2012/01/06/nyregion/100000001266018/brooklyns-rube-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berg.html#10000000201737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hape 169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812880"/>
            <a:ext cx="9913680" cy="56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174"/>
          <p:cNvSpPr/>
          <p:nvPr/>
        </p:nvSpPr>
        <p:spPr>
          <a:xfrm>
            <a:off x="419040" y="241200"/>
            <a:ext cx="97279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be Goldberg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your own or with ONE partner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Rube Goldberg machine that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s of energ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ergy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energy types and changes must b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labelled and explained on your handout!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reative! Show pride in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erson needs to fill out the handout. One picture per pai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Shape 175"/>
          <p:cNvGrpSpPr/>
          <p:nvPr/>
        </p:nvGrpSpPr>
        <p:grpSpPr>
          <a:xfrm>
            <a:off x="7493040" y="419040"/>
            <a:ext cx="2136240" cy="712440"/>
            <a:chOff x="7493040" y="419040"/>
            <a:chExt cx="2136240" cy="712440"/>
          </a:xfrm>
        </p:grpSpPr>
        <p:sp>
          <p:nvSpPr>
            <p:cNvPr id="81" name="Shape 176"/>
            <p:cNvSpPr/>
            <p:nvPr/>
          </p:nvSpPr>
          <p:spPr>
            <a:xfrm>
              <a:off x="7493040" y="419040"/>
              <a:ext cx="2136240" cy="712440"/>
            </a:xfrm>
            <a:custGeom>
              <a:avLst/>
              <a:gdLst/>
              <a:ahLst/>
              <a:rect l="l" t="t" r="r" b="b"/>
              <a:pathLst>
                <a:path w="120000" h="120000">
                  <a:moveTo>
                    <a:pt x="19999" y="0"/>
                  </a:moveTo>
                  <a:lnTo>
                    <a:pt x="101991" y="0"/>
                  </a:lnTo>
                  <a:lnTo>
                    <a:pt x="103999" y="408"/>
                  </a:lnTo>
                  <a:lnTo>
                    <a:pt x="107591" y="1395"/>
                  </a:lnTo>
                  <a:lnTo>
                    <a:pt x="110995" y="3404"/>
                  </a:lnTo>
                  <a:lnTo>
                    <a:pt x="112595" y="4391"/>
                  </a:lnTo>
                  <a:lnTo>
                    <a:pt x="115404" y="7200"/>
                  </a:lnTo>
                  <a:lnTo>
                    <a:pt x="117395" y="10400"/>
                  </a:lnTo>
                  <a:lnTo>
                    <a:pt x="118399" y="12204"/>
                  </a:lnTo>
                  <a:lnTo>
                    <a:pt x="119404" y="15795"/>
                  </a:lnTo>
                  <a:lnTo>
                    <a:pt x="119795" y="17804"/>
                  </a:lnTo>
                  <a:lnTo>
                    <a:pt x="119795" y="18791"/>
                  </a:lnTo>
                  <a:lnTo>
                    <a:pt x="119999" y="20000"/>
                  </a:lnTo>
                  <a:lnTo>
                    <a:pt x="119999" y="100000"/>
                  </a:lnTo>
                  <a:lnTo>
                    <a:pt x="119795" y="101003"/>
                  </a:lnTo>
                  <a:lnTo>
                    <a:pt x="119795" y="102008"/>
                  </a:lnTo>
                  <a:lnTo>
                    <a:pt x="119404" y="103999"/>
                  </a:lnTo>
                  <a:lnTo>
                    <a:pt x="118399" y="107591"/>
                  </a:lnTo>
                  <a:lnTo>
                    <a:pt x="116408" y="110995"/>
                  </a:lnTo>
                  <a:lnTo>
                    <a:pt x="115404" y="112595"/>
                  </a:lnTo>
                  <a:lnTo>
                    <a:pt x="112595" y="115404"/>
                  </a:lnTo>
                  <a:lnTo>
                    <a:pt x="109395" y="117395"/>
                  </a:lnTo>
                  <a:lnTo>
                    <a:pt x="107591" y="118399"/>
                  </a:lnTo>
                  <a:lnTo>
                    <a:pt x="103999" y="119404"/>
                  </a:lnTo>
                  <a:lnTo>
                    <a:pt x="101991" y="119795"/>
                  </a:lnTo>
                  <a:lnTo>
                    <a:pt x="101004" y="119795"/>
                  </a:lnTo>
                  <a:lnTo>
                    <a:pt x="99999" y="119999"/>
                  </a:lnTo>
                  <a:lnTo>
                    <a:pt x="19999" y="119999"/>
                  </a:lnTo>
                  <a:lnTo>
                    <a:pt x="18791" y="119795"/>
                  </a:lnTo>
                  <a:lnTo>
                    <a:pt x="17804" y="119795"/>
                  </a:lnTo>
                  <a:lnTo>
                    <a:pt x="15795" y="119404"/>
                  </a:lnTo>
                  <a:lnTo>
                    <a:pt x="12204" y="118399"/>
                  </a:lnTo>
                  <a:lnTo>
                    <a:pt x="8799" y="116391"/>
                  </a:lnTo>
                  <a:lnTo>
                    <a:pt x="7199" y="115404"/>
                  </a:lnTo>
                  <a:lnTo>
                    <a:pt x="4408" y="112595"/>
                  </a:lnTo>
                  <a:lnTo>
                    <a:pt x="2399" y="109395"/>
                  </a:lnTo>
                  <a:lnTo>
                    <a:pt x="1395" y="107591"/>
                  </a:lnTo>
                  <a:lnTo>
                    <a:pt x="408" y="103999"/>
                  </a:lnTo>
                  <a:lnTo>
                    <a:pt x="0" y="102008"/>
                  </a:lnTo>
                  <a:lnTo>
                    <a:pt x="0" y="17804"/>
                  </a:lnTo>
                  <a:lnTo>
                    <a:pt x="408" y="15795"/>
                  </a:lnTo>
                  <a:lnTo>
                    <a:pt x="1395" y="12204"/>
                  </a:lnTo>
                  <a:lnTo>
                    <a:pt x="3404" y="8800"/>
                  </a:lnTo>
                  <a:lnTo>
                    <a:pt x="4408" y="7200"/>
                  </a:lnTo>
                  <a:lnTo>
                    <a:pt x="7199" y="4391"/>
                  </a:lnTo>
                  <a:lnTo>
                    <a:pt x="10399" y="2399"/>
                  </a:lnTo>
                  <a:lnTo>
                    <a:pt x="12204" y="1395"/>
                  </a:lnTo>
                  <a:lnTo>
                    <a:pt x="15795" y="408"/>
                  </a:lnTo>
                  <a:lnTo>
                    <a:pt x="17804" y="0"/>
                  </a:lnTo>
                  <a:lnTo>
                    <a:pt x="19999" y="0"/>
                  </a:lnTo>
                  <a:close/>
                </a:path>
              </a:pathLst>
            </a:custGeom>
            <a:solidFill>
              <a:srgbClr val="32cd32"/>
            </a:solidFill>
            <a:ln w="381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hape 177"/>
            <p:cNvSpPr/>
            <p:nvPr/>
          </p:nvSpPr>
          <p:spPr>
            <a:xfrm>
              <a:off x="7505640" y="520920"/>
              <a:ext cx="20822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P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182"/>
          <p:cNvSpPr/>
          <p:nvPr/>
        </p:nvSpPr>
        <p:spPr>
          <a:xfrm>
            <a:off x="1397160" y="635040"/>
            <a:ext cx="483192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 toaster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the c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the coffee p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ff the alarm c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e your little br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he 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a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hape 187"/>
          <p:cNvSpPr/>
          <p:nvPr/>
        </p:nvSpPr>
        <p:spPr>
          <a:xfrm>
            <a:off x="3111480" y="3238560"/>
            <a:ext cx="43956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other Exampl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188"/>
          <p:cNvSpPr/>
          <p:nvPr/>
        </p:nvSpPr>
        <p:spPr>
          <a:xfrm>
            <a:off x="2311560" y="4648320"/>
            <a:ext cx="57956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qybUFnY7Y8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hape 193"/>
          <p:cNvSpPr/>
          <p:nvPr/>
        </p:nvSpPr>
        <p:spPr>
          <a:xfrm>
            <a:off x="457200" y="317520"/>
            <a:ext cx="5854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- ideas to include 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194"/>
          <p:cNvSpPr/>
          <p:nvPr/>
        </p:nvSpPr>
        <p:spPr>
          <a:xfrm>
            <a:off x="2158920" y="1549440"/>
            <a:ext cx="751788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bu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fa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stret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plugs in, with a mo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makes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hape 93"/>
          <p:cNvSpPr/>
          <p:nvPr/>
        </p:nvSpPr>
        <p:spPr>
          <a:xfrm>
            <a:off x="12600" y="5956200"/>
            <a:ext cx="9270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: energy of flowing electr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102200" y="4959360"/>
            <a:ext cx="5079600" cy="634680"/>
          </a:xfrm>
          <a:prstGeom prst="rect">
            <a:avLst/>
          </a:prstGeom>
          <a:ln w="0">
            <a:noFill/>
          </a:ln>
        </p:spPr>
      </p:pic>
      <p:pic>
        <p:nvPicPr>
          <p:cNvPr id="48" name="Shape 95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90440" y="235080"/>
            <a:ext cx="6924240" cy="45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hape 100"/>
          <p:cNvSpPr/>
          <p:nvPr/>
        </p:nvSpPr>
        <p:spPr>
          <a:xfrm>
            <a:off x="101520" y="5295960"/>
            <a:ext cx="101595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(thermal) energy: energy of the motion of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hape 10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25680" y="1212840"/>
            <a:ext cx="4371480" cy="3944520"/>
          </a:xfrm>
          <a:prstGeom prst="rect">
            <a:avLst/>
          </a:prstGeom>
          <a:ln w="0">
            <a:noFill/>
          </a:ln>
        </p:spPr>
      </p:pic>
      <p:sp>
        <p:nvSpPr>
          <p:cNvPr id="51" name="Shape 102"/>
          <p:cNvSpPr/>
          <p:nvPr/>
        </p:nvSpPr>
        <p:spPr>
          <a:xfrm>
            <a:off x="7099200" y="2031840"/>
            <a:ext cx="29206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(it's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rmome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hape 107"/>
          <p:cNvSpPr/>
          <p:nvPr/>
        </p:nvSpPr>
        <p:spPr>
          <a:xfrm>
            <a:off x="520560" y="5397480"/>
            <a:ext cx="102866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(electromagnetic) energy: energy from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on; moves as a wa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571680"/>
            <a:ext cx="3903480" cy="3720600"/>
          </a:xfrm>
          <a:prstGeom prst="rect">
            <a:avLst/>
          </a:prstGeom>
          <a:ln w="0">
            <a:noFill/>
          </a:ln>
        </p:spPr>
      </p:pic>
      <p:pic>
        <p:nvPicPr>
          <p:cNvPr id="54" name="Shape 10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832280" y="1193760"/>
            <a:ext cx="2825280" cy="42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hape 11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2000" y="622440"/>
            <a:ext cx="4884480" cy="3171600"/>
          </a:xfrm>
          <a:prstGeom prst="rect">
            <a:avLst/>
          </a:prstGeom>
          <a:ln w="0">
            <a:noFill/>
          </a:ln>
        </p:spPr>
      </p:pic>
      <p:sp>
        <p:nvSpPr>
          <p:cNvPr id="56" name="Shape 115"/>
          <p:cNvSpPr/>
          <p:nvPr/>
        </p:nvSpPr>
        <p:spPr>
          <a:xfrm>
            <a:off x="25560" y="4521240"/>
            <a:ext cx="100072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energy: energy of a system with moving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(combination of PE and K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hape 120"/>
          <p:cNvSpPr/>
          <p:nvPr/>
        </p:nvSpPr>
        <p:spPr>
          <a:xfrm>
            <a:off x="431640" y="5397480"/>
            <a:ext cx="96008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und energy: the energy of a vibration i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a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hape 12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82720" y="857160"/>
            <a:ext cx="2349000" cy="3098520"/>
          </a:xfrm>
          <a:prstGeom prst="rect">
            <a:avLst/>
          </a:prstGeom>
          <a:ln w="0">
            <a:noFill/>
          </a:ln>
        </p:spPr>
      </p:pic>
      <p:pic>
        <p:nvPicPr>
          <p:cNvPr id="59" name="Shape 12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381560" y="393840"/>
            <a:ext cx="43938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hape 12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55680" y="419040"/>
            <a:ext cx="4304880" cy="3293640"/>
          </a:xfrm>
          <a:prstGeom prst="rect">
            <a:avLst/>
          </a:prstGeom>
          <a:ln w="0">
            <a:noFill/>
          </a:ln>
        </p:spPr>
      </p:pic>
      <p:sp>
        <p:nvSpPr>
          <p:cNvPr id="61" name="Shape 128"/>
          <p:cNvSpPr/>
          <p:nvPr/>
        </p:nvSpPr>
        <p:spPr>
          <a:xfrm>
            <a:off x="50760" y="5308560"/>
            <a:ext cx="9880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nergy: energy stored in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hape 12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651640" y="2025720"/>
            <a:ext cx="261576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hape 134"/>
          <p:cNvSpPr/>
          <p:nvPr/>
        </p:nvSpPr>
        <p:spPr>
          <a:xfrm>
            <a:off x="139680" y="4635360"/>
            <a:ext cx="9880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stic energy: energy stored in a stretched or compressed mater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hape 13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44600" y="1244520"/>
            <a:ext cx="3676320" cy="3071520"/>
          </a:xfrm>
          <a:prstGeom prst="rect">
            <a:avLst/>
          </a:prstGeom>
          <a:ln w="0">
            <a:noFill/>
          </a:ln>
        </p:spPr>
      </p:pic>
      <p:pic>
        <p:nvPicPr>
          <p:cNvPr id="65" name="Shape 13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16280" y="1397160"/>
            <a:ext cx="5732280" cy="1136160"/>
          </a:xfrm>
          <a:prstGeom prst="rect">
            <a:avLst/>
          </a:prstGeom>
          <a:ln w="0">
            <a:noFill/>
          </a:ln>
        </p:spPr>
      </p:pic>
      <p:sp>
        <p:nvSpPr>
          <p:cNvPr id="66" name="Shape 137"/>
          <p:cNvSpPr/>
          <p:nvPr/>
        </p:nvSpPr>
        <p:spPr>
          <a:xfrm>
            <a:off x="7353360" y="622440"/>
            <a:ext cx="26665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3rd peri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hape 142"/>
          <p:cNvSpPr/>
          <p:nvPr/>
        </p:nvSpPr>
        <p:spPr>
          <a:xfrm>
            <a:off x="317520" y="5092560"/>
            <a:ext cx="10032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tional energy: stored energy due to a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's position above the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4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232240" y="1619280"/>
            <a:ext cx="406368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Shape 144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77760" y="343080"/>
            <a:ext cx="31698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